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dt" idx="10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ftr" idx="11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 type="sldNum" idx="12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C8D3-819F-46BC-89CC-989C7116A189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1CD4-2427-4F16-998A-894E388DE896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48050-9CBE-4986-BA4D-B6F25A87B1F8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7DA7E-AEA3-43EE-AA67-493820162E18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D7E8-C72C-4FC9-85C7-E9BC2A42938C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3E046-FD1B-4043-A424-D7FB2AEB97E2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0A7C2-9251-40BF-9F50-D314B6B17B02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F8E5D-947D-44A4-8B87-109E59CCA6EE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F45AF-FC3B-460F-8440-E96F46D709E5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DC568-0CB6-4FBD-9319-2FEF22FCDCCA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718F5-6B0B-44C7-BE9F-736E4E5C407F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5A072-AA7E-4875-8CAB-CFE7DFA35644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0F051-3005-4D6F-96C8-AE00C3F0E3DA}" type="slidenum">
              <a:rPr b="0" lang="fa-I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BE36C-423A-479F-9481-618443C3EFA3}" type="slidenum">
              <a:rPr b="0" lang="ar-S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5AEA5-6BA7-4787-A0D6-FF29A2A81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19C91-D3BE-4645-B1E7-7DF239139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7008-9A54-4728-87EE-C8297DEB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86F5A-819C-48EA-8693-013B6A36A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46ABF-FACD-49A7-BDF5-6030A264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DEB3F-2FB6-4412-A905-E5B03F036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8345-B3E3-4882-9175-DC7525AD8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FD8AC-0C32-4030-8BBC-B733AE3F8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04612-89B2-4443-8AEB-8696F1861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C55A6-C7E4-488F-9C00-9086736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A4C44-C863-4ACF-9F7D-9DF6BA2E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510C-9D9C-4FF7-9134-20FBCBAD2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528C-46B3-449F-8D20-893AED6D3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9C2FF-DCEB-4227-A9D4-DF63A2788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276E1-530D-4745-B2AB-4789CED0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E4CB-313E-4D75-8D6F-4E84FFDF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DDAFD-6884-456A-9135-84E07C1D5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4810DC-F704-4E57-8BDC-4EE9470D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A930A-F403-400D-BA10-21D0D12E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A78BE3-D71E-4D38-BFCC-7565AAEE4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1C6DD-4669-45C8-AC40-D676533A2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F90213-0D2D-4670-9B53-6F9ADAFD1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0358A-4F12-4603-B470-3F0E0905B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ACA8D0-BE33-4113-8A83-200853699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7BD1D-25CE-45A3-A0BC-E5DB39FFA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64749-5468-467C-B085-A0E2FB4F3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F2E51-DF8F-4F89-B1F1-46F85A65D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6FD690-EDB8-471C-AAB7-4AF28568E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E4A2D-A015-4F38-BFF8-AA2BDB92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AD0CB7-BAE3-4D6B-B144-7B4575B76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D94D-C7D5-4DD0-A333-E123D1275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975C-3107-4EDD-B7CF-0BA2F166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1BA5-8339-46F5-B57A-B5D026215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3592-4B94-49BB-8B3C-5966EA2BC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55E8E-5CB2-412F-B58D-3FF588240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47F5-0009-447F-A41F-3AF882D7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BD71C-B21A-47D3-AAF6-BFC6449A5F55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6"/>
          <p:cNvSpPr/>
          <p:nvPr/>
        </p:nvSpPr>
        <p:spPr>
          <a:xfrm>
            <a:off x="5143680" y="522360"/>
            <a:ext cx="3503520" cy="938160"/>
          </a:xfrm>
          <a:prstGeom prst="rect">
            <a:avLst/>
          </a:prstGeom>
          <a:solidFill>
            <a:srgbClr val="f0eee4"/>
          </a:solidFill>
          <a:ln w="25560">
            <a:solidFill>
              <a:srgbClr val="f0ee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" descr=""/>
          <p:cNvPicPr/>
          <p:nvPr/>
        </p:nvPicPr>
        <p:blipFill>
          <a:blip r:embed="rId2"/>
          <a:stretch/>
        </p:blipFill>
        <p:spPr>
          <a:xfrm>
            <a:off x="476280" y="501480"/>
            <a:ext cx="4762440" cy="9986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3" descr=""/>
          <p:cNvPicPr/>
          <p:nvPr/>
        </p:nvPicPr>
        <p:blipFill>
          <a:blip r:embed="rId3"/>
          <a:stretch/>
        </p:blipFill>
        <p:spPr>
          <a:xfrm>
            <a:off x="7786800" y="487440"/>
            <a:ext cx="876240" cy="1182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9"/>
          <p:cNvSpPr/>
          <p:nvPr/>
        </p:nvSpPr>
        <p:spPr>
          <a:xfrm>
            <a:off x="463680" y="156528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5214960" y="500040"/>
            <a:ext cx="2581200" cy="955800"/>
          </a:xfrm>
          <a:prstGeom prst="rect">
            <a:avLst/>
          </a:prstGeom>
          <a:ln w="0">
            <a:noFill/>
          </a:ln>
        </p:spPr>
      </p:pic>
      <p:sp>
        <p:nvSpPr>
          <p:cNvPr id="46" name="Straight Connector 11"/>
          <p:cNvSpPr/>
          <p:nvPr/>
        </p:nvSpPr>
        <p:spPr>
          <a:xfrm>
            <a:off x="476280" y="6240600"/>
            <a:ext cx="8191440" cy="1440"/>
          </a:xfrm>
          <a:prstGeom prst="line">
            <a:avLst/>
          </a:prstGeom>
          <a:ln w="2160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a-I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39E15-0114-4E1E-9BBC-57539ABAF46D}" type="slidenum">
              <a:rPr b="0" lang="fa-I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D5A5D-5D3C-4D5B-B259-95F7CDFD6568}" type="slidenum">
              <a:rPr b="0" lang="ar-S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electrical_safety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hyperlink" Target="file:///HeatStress.ppt" TargetMode="External"/><Relationship Id="rId6" Type="http://schemas.openxmlformats.org/officeDocument/2006/relationships/image" Target="../media/image6.png"/><Relationship Id="rId7" Type="http://schemas.openxmlformats.org/officeDocument/2006/relationships/image" Target="../media/image4.png"/><Relationship Id="rId8" Type="http://schemas.openxmlformats.org/officeDocument/2006/relationships/hyperlink" Target="file:///chemical%20hazard%20.ppt" TargetMode="External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LaserSafetyTraining.ppt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image" Target="../media/image6.png"/><Relationship Id="rId7" Type="http://schemas.openxmlformats.org/officeDocument/2006/relationships/hyperlink" Target="file:///chemical%20hazard%20.ppt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4.png"/><Relationship Id="rId6" Type="http://schemas.openxmlformats.org/officeDocument/2006/relationships/hyperlink" Target="file:///chemical%20hazard%20.ppt" TargetMode="External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Lab Safety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: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Physical and Chemical</a:t>
            </a: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ts val="22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5400" spc="-1" strike="noStrike" u="sng">
                <a:solidFill>
                  <a:srgbClr val="0000ff"/>
                </a:solidFill>
                <a:uFillTx/>
                <a:latin typeface="Calibri"/>
              </a:rPr>
              <a:t>Hazard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.Khosrav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ff"/>
                </a:solidFill>
                <a:latin typeface="Calibri"/>
              </a:rPr>
              <a:t>yakhosravi@yahoo.c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ctr" rtl="1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lnSpc>
                <a:spcPts val="22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428560" y="1714680"/>
            <a:ext cx="62578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lvl="2" marL="554040" indent="-22860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adding items to LN2.  Rapid addition of items can result in splashes to the face and hand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Rounded Rectangle 3"/>
          <p:cNvSpPr/>
          <p:nvPr/>
        </p:nvSpPr>
        <p:spPr>
          <a:xfrm>
            <a:off x="47160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1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302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3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305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308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311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314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17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2571480" y="1714680"/>
            <a:ext cx="596268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isotope includes both sealed and unsealed source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aled:  gas chromatographs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52712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Unsealed: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P, 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alibri"/>
              </a:rPr>
              <a:t>125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20" name="Group 6"/>
          <p:cNvGrpSpPr/>
          <p:nvPr/>
        </p:nvGrpSpPr>
        <p:grpSpPr>
          <a:xfrm>
            <a:off x="5651640" y="4076640"/>
            <a:ext cx="1657080" cy="1968480"/>
            <a:chOff x="5651640" y="4076640"/>
            <a:chExt cx="1657080" cy="1968480"/>
          </a:xfrm>
        </p:grpSpPr>
        <p:pic>
          <p:nvPicPr>
            <p:cNvPr id="321" name="Picture 4" descr="87"/>
            <p:cNvPicPr/>
            <p:nvPr/>
          </p:nvPicPr>
          <p:blipFill>
            <a:blip r:embed="rId1"/>
            <a:stretch/>
          </p:blipFill>
          <p:spPr>
            <a:xfrm>
              <a:off x="5651640" y="4076640"/>
              <a:ext cx="1657080" cy="1695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Text Box 5"/>
            <p:cNvSpPr/>
            <p:nvPr/>
          </p:nvSpPr>
          <p:spPr>
            <a:xfrm>
              <a:off x="5851080" y="5676840"/>
              <a:ext cx="125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Radioacti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Rounded Rectangle 6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4" name="Rounded Rectangle 7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25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6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7" name="Rounded Rectangle 9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28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0" name="Rounded Rectangle 11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31" name="Rounded Rectangle 11" descr=""/>
            <p:cNvPicPr/>
            <p:nvPr/>
          </p:nvPicPr>
          <p:blipFill>
            <a:blip r:embed="rId4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2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3" name="Rounded Rectangle 12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34" name="Rounded Rectangle 12" descr=""/>
            <p:cNvPicPr/>
            <p:nvPr/>
          </p:nvPicPr>
          <p:blipFill>
            <a:blip r:embed="rId5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Rounded Rectangle 13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37" name="Rounded Rectangle 13" descr=""/>
            <p:cNvPicPr/>
            <p:nvPr/>
          </p:nvPicPr>
          <p:blipFill>
            <a:blip r:embed="rId6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8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Rounded Rectangle 14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41" name="Rounded Rectangle 14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2571840" y="1785960"/>
            <a:ext cx="6114960" cy="434016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of radioactive materials requires prior authorization from the UAF Radiation Safety Officer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907-474-6771).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NOTE: All project members must have UAF Training and Authoriz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Rounded Rectangle 12"/>
          <p:cNvSpPr/>
          <p:nvPr/>
        </p:nvSpPr>
        <p:spPr>
          <a:xfrm>
            <a:off x="500040" y="485784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Rounded Rectangle 13"/>
          <p:cNvGrpSpPr/>
          <p:nvPr/>
        </p:nvGrpSpPr>
        <p:grpSpPr>
          <a:xfrm>
            <a:off x="480960" y="4340160"/>
            <a:ext cx="1987560" cy="390600"/>
            <a:chOff x="480960" y="4340160"/>
            <a:chExt cx="1987560" cy="390600"/>
          </a:xfrm>
        </p:grpSpPr>
        <p:pic>
          <p:nvPicPr>
            <p:cNvPr id="346" name="Rounded Rectangle 13" descr=""/>
            <p:cNvPicPr/>
            <p:nvPr/>
          </p:nvPicPr>
          <p:blipFill>
            <a:blip r:embed="rId1"/>
            <a:stretch/>
          </p:blipFill>
          <p:spPr>
            <a:xfrm>
              <a:off x="480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"/>
            <p:cNvSpPr/>
            <p:nvPr/>
          </p:nvSpPr>
          <p:spPr>
            <a:xfrm>
              <a:off x="51768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8" name="Rounded Rectangle 15"/>
          <p:cNvGrpSpPr/>
          <p:nvPr/>
        </p:nvGrpSpPr>
        <p:grpSpPr>
          <a:xfrm>
            <a:off x="487440" y="2352600"/>
            <a:ext cx="1993680" cy="390600"/>
            <a:chOff x="487440" y="2352600"/>
            <a:chExt cx="1993680" cy="390600"/>
          </a:xfrm>
        </p:grpSpPr>
        <p:pic>
          <p:nvPicPr>
            <p:cNvPr id="349" name="Rounded Rectangle 15" descr=""/>
            <p:cNvPicPr/>
            <p:nvPr/>
          </p:nvPicPr>
          <p:blipFill>
            <a:blip r:embed="rId2"/>
            <a:stretch/>
          </p:blipFill>
          <p:spPr>
            <a:xfrm>
              <a:off x="487440" y="235260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523800" y="2387520"/>
              <a:ext cx="19195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Rounded Rectangle 17"/>
          <p:cNvGrpSpPr/>
          <p:nvPr/>
        </p:nvGrpSpPr>
        <p:grpSpPr>
          <a:xfrm>
            <a:off x="480960" y="3346560"/>
            <a:ext cx="1987560" cy="390240"/>
            <a:chOff x="480960" y="3346560"/>
            <a:chExt cx="1987560" cy="390240"/>
          </a:xfrm>
        </p:grpSpPr>
        <p:pic>
          <p:nvPicPr>
            <p:cNvPr id="352" name="Rounded Rectangle 17" descr=""/>
            <p:cNvPicPr/>
            <p:nvPr/>
          </p:nvPicPr>
          <p:blipFill>
            <a:blip r:embed="rId3"/>
            <a:stretch/>
          </p:blipFill>
          <p:spPr>
            <a:xfrm>
              <a:off x="480960" y="334656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517680" y="3381480"/>
              <a:ext cx="191772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Rounded Rectangle 18"/>
          <p:cNvGrpSpPr/>
          <p:nvPr/>
        </p:nvGrpSpPr>
        <p:grpSpPr>
          <a:xfrm>
            <a:off x="480960" y="3840120"/>
            <a:ext cx="1987560" cy="390600"/>
            <a:chOff x="480960" y="3840120"/>
            <a:chExt cx="1987560" cy="390600"/>
          </a:xfrm>
        </p:grpSpPr>
        <p:pic>
          <p:nvPicPr>
            <p:cNvPr id="355" name="Rounded Rectangle 18" descr=""/>
            <p:cNvPicPr/>
            <p:nvPr/>
          </p:nvPicPr>
          <p:blipFill>
            <a:blip r:embed="rId4"/>
            <a:stretch/>
          </p:blipFill>
          <p:spPr>
            <a:xfrm>
              <a:off x="480960" y="384012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6" name=""/>
            <p:cNvSpPr/>
            <p:nvPr/>
          </p:nvSpPr>
          <p:spPr>
            <a:xfrm>
              <a:off x="517680" y="387504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Rounded Rectangle 19"/>
          <p:cNvGrpSpPr/>
          <p:nvPr/>
        </p:nvGrpSpPr>
        <p:grpSpPr>
          <a:xfrm>
            <a:off x="450720" y="2846520"/>
            <a:ext cx="1987560" cy="390240"/>
            <a:chOff x="450720" y="2846520"/>
            <a:chExt cx="1987560" cy="390240"/>
          </a:xfrm>
        </p:grpSpPr>
        <p:pic>
          <p:nvPicPr>
            <p:cNvPr id="358" name="Rounded Rectangle 19" descr=""/>
            <p:cNvPicPr/>
            <p:nvPr/>
          </p:nvPicPr>
          <p:blipFill>
            <a:blip r:embed="rId5"/>
            <a:stretch/>
          </p:blipFill>
          <p:spPr>
            <a:xfrm>
              <a:off x="450720" y="2846520"/>
              <a:ext cx="1987560" cy="3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"/>
            <p:cNvSpPr/>
            <p:nvPr/>
          </p:nvSpPr>
          <p:spPr>
            <a:xfrm>
              <a:off x="485640" y="28828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1" name="Rounded Rectangle 9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362" name="Rounded Rectangle 9" descr=""/>
            <p:cNvPicPr/>
            <p:nvPr/>
          </p:nvPicPr>
          <p:blipFill>
            <a:blip r:embed="rId6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2" descr="KINGC05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65" name="Text Box 3"/>
          <p:cNvSpPr/>
          <p:nvPr/>
        </p:nvSpPr>
        <p:spPr>
          <a:xfrm>
            <a:off x="2457360" y="1967040"/>
            <a:ext cx="5353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Calibri"/>
                <a:ea typeface="B Zar"/>
              </a:rPr>
              <a:t>THANKS FOR YOUY ATTEN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ludes (but not limited to)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ressed g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lectrical equip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Las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rmal hazar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adi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Rounded Rectangle 3"/>
          <p:cNvSpPr/>
          <p:nvPr/>
        </p:nvSpPr>
        <p:spPr>
          <a:xfrm>
            <a:off x="428760" y="235728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Physic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Rounded Rectangle 4"/>
          <p:cNvGrpSpPr/>
          <p:nvPr/>
        </p:nvGrpSpPr>
        <p:grpSpPr>
          <a:xfrm>
            <a:off x="407880" y="2840040"/>
            <a:ext cx="1994040" cy="390600"/>
            <a:chOff x="407880" y="2840040"/>
            <a:chExt cx="1994040" cy="390600"/>
          </a:xfrm>
        </p:grpSpPr>
        <p:pic>
          <p:nvPicPr>
            <p:cNvPr id="14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07880" y="2840040"/>
              <a:ext cx="19940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4460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ffff"/>
                  </a:solidFill>
                  <a:latin typeface="Calibri"/>
                </a:rPr>
                <a:t>Compressed Gas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4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4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4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5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5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0200" y="1714320"/>
            <a:ext cx="622944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ressed gas cylinders must be restrained in an upright position in the la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ps must be in place when cylinder is not in us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ke sure regulator and supply lines are in good condi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use rigid plastic tubing, which can shatter if the pressure limits are excee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ounded Rectangle 3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60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63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66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69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72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75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2571840" y="1714680"/>
            <a:ext cx="611496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hen turning on the ga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sure that the flow valve is open (so there will be no pressure in the supply line).  Adjust flow valve only after you have opened the regulato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urn your head away from the tan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8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179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182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185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7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188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0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191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Rounded Rectangle 11"/>
          <p:cNvSpPr/>
          <p:nvPr/>
        </p:nvSpPr>
        <p:spPr>
          <a:xfrm>
            <a:off x="428760" y="2857680"/>
            <a:ext cx="1952640" cy="352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Compressed Ga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195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643120" y="1714320"/>
            <a:ext cx="604368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lways inspect electrical cords prior to use.  Do not use if they are cracked or have exposed wiring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use electrical appliances near wat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ke sure hands are dry when unplugging a cord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o not overload outlet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 excessive use of extension cord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ever override the safety features on electrical equipment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Rounded Rectangle 3">
            <a:hlinkClick r:id="rId1"/>
          </p:cNvPr>
          <p:cNvSpPr/>
          <p:nvPr/>
        </p:nvSpPr>
        <p:spPr>
          <a:xfrm>
            <a:off x="428760" y="3357720"/>
            <a:ext cx="2000160" cy="357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lectrical</a:t>
            </a: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i="1" lang="en-US" sz="1600" spc="-1" strike="noStrike">
                <a:solidFill>
                  <a:srgbClr val="ffffff"/>
                </a:solidFill>
                <a:latin typeface="Calibri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0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0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06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09" name="Rounded Rectangle 10" descr="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Rounded Rectangle 12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12" name="Rounded Rectangle 12" descr=""/>
            <p:cNvPicPr/>
            <p:nvPr/>
          </p:nvPicPr>
          <p:blipFill>
            <a:blip r:embed="rId7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15" name="Rounded Rectangle 8" descr="">
              <a:hlinkClick r:id="rId8"/>
            </p:cNvPr>
            <p:cNvPicPr/>
            <p:nvPr/>
          </p:nvPicPr>
          <p:blipFill>
            <a:blip r:embed="rId9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2499840" y="1714320"/>
            <a:ext cx="6186600" cy="44290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f you work with lasers in your lab, your supervisor should provide you with specific operating procedures and safety inform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aser Safety training is available through UAF EHS&amp;RM (907-474-2762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Rounded Rectangle 3">
            <a:hlinkClick r:id="rId1"/>
          </p:cNvPr>
          <p:cNvSpPr/>
          <p:nvPr/>
        </p:nvSpPr>
        <p:spPr>
          <a:xfrm>
            <a:off x="441360" y="385776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La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Rounded Rectangle 4"/>
          <p:cNvGrpSpPr/>
          <p:nvPr/>
        </p:nvGrpSpPr>
        <p:grpSpPr>
          <a:xfrm>
            <a:off x="450720" y="2341440"/>
            <a:ext cx="1987560" cy="389160"/>
            <a:chOff x="450720" y="2341440"/>
            <a:chExt cx="1987560" cy="389160"/>
          </a:xfrm>
        </p:grpSpPr>
        <p:pic>
          <p:nvPicPr>
            <p:cNvPr id="220" name="Rounded Rectangle 4" descr=""/>
            <p:cNvPicPr/>
            <p:nvPr/>
          </p:nvPicPr>
          <p:blipFill>
            <a:blip r:embed="rId2"/>
            <a:stretch/>
          </p:blipFill>
          <p:spPr>
            <a:xfrm>
              <a:off x="4507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4856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2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23" name="Rounded Rectangle 6" descr=""/>
            <p:cNvPicPr/>
            <p:nvPr/>
          </p:nvPicPr>
          <p:blipFill>
            <a:blip r:embed="rId3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Rounded Rectangle 8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26" name="Rounded Rectangle 8" descr=""/>
            <p:cNvPicPr/>
            <p:nvPr/>
          </p:nvPicPr>
          <p:blipFill>
            <a:blip r:embed="rId4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Rounded Rectangle 9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29" name="Rounded Rectangle 9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Rounded Rectangle 10"/>
          <p:cNvGrpSpPr/>
          <p:nvPr/>
        </p:nvGrpSpPr>
        <p:grpSpPr>
          <a:xfrm>
            <a:off x="426960" y="4340160"/>
            <a:ext cx="1987560" cy="390600"/>
            <a:chOff x="426960" y="4340160"/>
            <a:chExt cx="1987560" cy="390600"/>
          </a:xfrm>
        </p:grpSpPr>
        <p:pic>
          <p:nvPicPr>
            <p:cNvPr id="232" name="Rounded Rectangle 10" descr=""/>
            <p:cNvPicPr/>
            <p:nvPr/>
          </p:nvPicPr>
          <p:blipFill>
            <a:blip r:embed="rId6"/>
            <a:stretch/>
          </p:blipFill>
          <p:spPr>
            <a:xfrm>
              <a:off x="426960" y="434016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" name=""/>
            <p:cNvSpPr/>
            <p:nvPr/>
          </p:nvSpPr>
          <p:spPr>
            <a:xfrm>
              <a:off x="460440" y="437508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Therm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35" name="Rounded Rectangle 11" descr="">
              <a:hlinkClick r:id="rId7"/>
            </p:cNvPr>
            <p:cNvPicPr/>
            <p:nvPr/>
          </p:nvPicPr>
          <p:blipFill>
            <a:blip r:embed="rId8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6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499840" y="1714680"/>
            <a:ext cx="5915160" cy="4410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rmal hazards include both hot and cold object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ot ite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heat-resistant gloves when handling hot item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caution when heating liquids on hot plat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se a stir bar or Boil-Eezers to ensure even heating of the liquids (to prevent superheating and boil-over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ever leave hot plates unattende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Rounded Rectangle 4"/>
          <p:cNvSpPr/>
          <p:nvPr/>
        </p:nvSpPr>
        <p:spPr>
          <a:xfrm>
            <a:off x="45396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9" name="Rounded Rectangle 5"/>
          <p:cNvGrpSpPr/>
          <p:nvPr/>
        </p:nvGrpSpPr>
        <p:grpSpPr>
          <a:xfrm>
            <a:off x="426960" y="2341440"/>
            <a:ext cx="1987560" cy="389160"/>
            <a:chOff x="426960" y="2341440"/>
            <a:chExt cx="1987560" cy="389160"/>
          </a:xfrm>
        </p:grpSpPr>
        <p:pic>
          <p:nvPicPr>
            <p:cNvPr id="240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2696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4604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Rounded Rectangle 7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43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46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49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Rounded Rectangle 11"/>
          <p:cNvGrpSpPr/>
          <p:nvPr/>
        </p:nvGrpSpPr>
        <p:grpSpPr>
          <a:xfrm>
            <a:off x="420840" y="2840040"/>
            <a:ext cx="1993680" cy="390600"/>
            <a:chOff x="420840" y="2840040"/>
            <a:chExt cx="1993680" cy="390600"/>
          </a:xfrm>
        </p:grpSpPr>
        <p:pic>
          <p:nvPicPr>
            <p:cNvPr id="252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20840" y="2840040"/>
              <a:ext cx="199368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45864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5" name="Rounded Rectangle 12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56" name="Rounded Rectangle 12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2499840" y="1714680"/>
            <a:ext cx="6186600" cy="4411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unsen burne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spect tubing prior to using the burner.  It should not have cracks, and should fit tightly to the burner and to the gas spigo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e alert to gas leaks along the tubing—these can ignit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4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nd back from the burner when lighting the g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r" rtl="1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ounded Rectangle 4"/>
          <p:cNvSpPr/>
          <p:nvPr/>
        </p:nvSpPr>
        <p:spPr>
          <a:xfrm>
            <a:off x="47952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Rounded Rectangle 5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61" name="Rounded Rectangle 5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Rounded Rectangle 7"/>
          <p:cNvGrpSpPr/>
          <p:nvPr/>
        </p:nvGrpSpPr>
        <p:grpSpPr>
          <a:xfrm>
            <a:off x="457200" y="4846680"/>
            <a:ext cx="1987560" cy="384120"/>
            <a:chOff x="457200" y="4846680"/>
            <a:chExt cx="1987560" cy="384120"/>
          </a:xfrm>
        </p:grpSpPr>
        <p:pic>
          <p:nvPicPr>
            <p:cNvPr id="264" name="Rounded Rectangle 7" descr=""/>
            <p:cNvPicPr/>
            <p:nvPr/>
          </p:nvPicPr>
          <p:blipFill>
            <a:blip r:embed="rId2"/>
            <a:stretch/>
          </p:blipFill>
          <p:spPr>
            <a:xfrm>
              <a:off x="4572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49068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Rounded Rectangle 9"/>
          <p:cNvGrpSpPr/>
          <p:nvPr/>
        </p:nvGrpSpPr>
        <p:grpSpPr>
          <a:xfrm>
            <a:off x="444600" y="3340080"/>
            <a:ext cx="1987560" cy="384120"/>
            <a:chOff x="444600" y="3340080"/>
            <a:chExt cx="1987560" cy="384120"/>
          </a:xfrm>
        </p:grpSpPr>
        <p:pic>
          <p:nvPicPr>
            <p:cNvPr id="267" name="Rounded Rectangle 9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477720" y="33735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Rounded Rectangle 10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70" name="Rounded Rectangle 10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 rtl="1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Rounded Rectangle 11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73" name="Rounded Rectangle 11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Rounded Rectangle 8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76" name="Rounded Rectangle 8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/>
          </p:nvPr>
        </p:nvSpPr>
        <p:spPr>
          <a:xfrm>
            <a:off x="2500200" y="1714680"/>
            <a:ext cx="6415200" cy="43574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Liquid Nitrogen (LN2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insulated or cryoprotective gloves when accessing LN2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ote:  cotton mittens are not sufficient.  Splashes of LN2 can easily penetrate the mittens, causing frostbite and serious injur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ar face shield or splash goggles to protect face and/or eyes from splash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ounded Rectangle 3"/>
          <p:cNvSpPr/>
          <p:nvPr/>
        </p:nvSpPr>
        <p:spPr>
          <a:xfrm>
            <a:off x="463680" y="4357800"/>
            <a:ext cx="1952640" cy="352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d2a"/>
              </a:gs>
              <a:gs pos="100000">
                <a:srgbClr val="00bd4f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Calibri"/>
              </a:rPr>
              <a:t>Thermal Haz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Rounded Rectangle 4"/>
          <p:cNvGrpSpPr/>
          <p:nvPr/>
        </p:nvGrpSpPr>
        <p:grpSpPr>
          <a:xfrm>
            <a:off x="438120" y="2341440"/>
            <a:ext cx="1987560" cy="389160"/>
            <a:chOff x="438120" y="2341440"/>
            <a:chExt cx="1987560" cy="389160"/>
          </a:xfrm>
        </p:grpSpPr>
        <p:pic>
          <p:nvPicPr>
            <p:cNvPr id="281" name="Rounded Rectangle 4" descr=""/>
            <p:cNvPicPr/>
            <p:nvPr/>
          </p:nvPicPr>
          <p:blipFill>
            <a:blip r:embed="rId1"/>
            <a:stretch/>
          </p:blipFill>
          <p:spPr>
            <a:xfrm>
              <a:off x="438120" y="234144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"/>
            <p:cNvSpPr/>
            <p:nvPr/>
          </p:nvSpPr>
          <p:spPr>
            <a:xfrm>
              <a:off x="473040" y="23796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Phys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Rounded Rectangle 6"/>
          <p:cNvGrpSpPr/>
          <p:nvPr/>
        </p:nvGrpSpPr>
        <p:grpSpPr>
          <a:xfrm>
            <a:off x="444600" y="4846680"/>
            <a:ext cx="1987560" cy="384120"/>
            <a:chOff x="444600" y="4846680"/>
            <a:chExt cx="1987560" cy="384120"/>
          </a:xfrm>
        </p:grpSpPr>
        <p:pic>
          <p:nvPicPr>
            <p:cNvPr id="284" name="Rounded Rectangle 6" descr=""/>
            <p:cNvPicPr/>
            <p:nvPr/>
          </p:nvPicPr>
          <p:blipFill>
            <a:blip r:embed="rId2"/>
            <a:stretch/>
          </p:blipFill>
          <p:spPr>
            <a:xfrm>
              <a:off x="444600" y="4846680"/>
              <a:ext cx="1987560" cy="38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477720" y="48798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Radi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Rounded Rectangle 8"/>
          <p:cNvGrpSpPr/>
          <p:nvPr/>
        </p:nvGrpSpPr>
        <p:grpSpPr>
          <a:xfrm>
            <a:off x="444600" y="3340080"/>
            <a:ext cx="1987560" cy="390600"/>
            <a:chOff x="444600" y="3340080"/>
            <a:chExt cx="1987560" cy="390600"/>
          </a:xfrm>
        </p:grpSpPr>
        <p:pic>
          <p:nvPicPr>
            <p:cNvPr id="287" name="Rounded Rectangle 8" descr=""/>
            <p:cNvPicPr/>
            <p:nvPr/>
          </p:nvPicPr>
          <p:blipFill>
            <a:blip r:embed="rId3"/>
            <a:stretch/>
          </p:blipFill>
          <p:spPr>
            <a:xfrm>
              <a:off x="444600" y="3340080"/>
              <a:ext cx="198756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"/>
            <p:cNvSpPr/>
            <p:nvPr/>
          </p:nvSpPr>
          <p:spPr>
            <a:xfrm>
              <a:off x="477720" y="3375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ffffff"/>
                  </a:solidFill>
                  <a:latin typeface="Calibri"/>
                </a:rPr>
                <a:t>Electrical  Equip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Rounded Rectangle 9"/>
          <p:cNvGrpSpPr/>
          <p:nvPr/>
        </p:nvGrpSpPr>
        <p:grpSpPr>
          <a:xfrm>
            <a:off x="444600" y="3828960"/>
            <a:ext cx="1987560" cy="389160"/>
            <a:chOff x="444600" y="3828960"/>
            <a:chExt cx="1987560" cy="389160"/>
          </a:xfrm>
        </p:grpSpPr>
        <p:pic>
          <p:nvPicPr>
            <p:cNvPr id="290" name="Rounded Rectangle 9" descr=""/>
            <p:cNvPicPr/>
            <p:nvPr/>
          </p:nvPicPr>
          <p:blipFill>
            <a:blip r:embed="rId4"/>
            <a:stretch/>
          </p:blipFill>
          <p:spPr>
            <a:xfrm>
              <a:off x="444600" y="3828960"/>
              <a:ext cx="1987560" cy="38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"/>
            <p:cNvSpPr/>
            <p:nvPr/>
          </p:nvSpPr>
          <p:spPr>
            <a:xfrm>
              <a:off x="477720" y="386712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Las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Rounded Rectangle 10"/>
          <p:cNvGrpSpPr/>
          <p:nvPr/>
        </p:nvGrpSpPr>
        <p:grpSpPr>
          <a:xfrm>
            <a:off x="433440" y="2840040"/>
            <a:ext cx="1992240" cy="390600"/>
            <a:chOff x="433440" y="2840040"/>
            <a:chExt cx="1992240" cy="390600"/>
          </a:xfrm>
        </p:grpSpPr>
        <p:pic>
          <p:nvPicPr>
            <p:cNvPr id="293" name="Rounded Rectangle 10" descr=""/>
            <p:cNvPicPr/>
            <p:nvPr/>
          </p:nvPicPr>
          <p:blipFill>
            <a:blip r:embed="rId5"/>
            <a:stretch/>
          </p:blipFill>
          <p:spPr>
            <a:xfrm>
              <a:off x="433440" y="2840040"/>
              <a:ext cx="1992240" cy="3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471600" y="287496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ompressed Ga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5" name="Rounded Rectangle 11"/>
          <p:cNvGrpSpPr/>
          <p:nvPr/>
        </p:nvGrpSpPr>
        <p:grpSpPr>
          <a:xfrm>
            <a:off x="523800" y="5353200"/>
            <a:ext cx="1987560" cy="388800"/>
            <a:chOff x="523800" y="5353200"/>
            <a:chExt cx="1987560" cy="388800"/>
          </a:xfrm>
        </p:grpSpPr>
        <p:pic>
          <p:nvPicPr>
            <p:cNvPr id="296" name="Rounded Rectangle 11" descr="">
              <a:hlinkClick r:id="rId6"/>
            </p:cNvPr>
            <p:cNvPicPr/>
            <p:nvPr/>
          </p:nvPicPr>
          <p:blipFill>
            <a:blip r:embed="rId7"/>
            <a:stretch/>
          </p:blipFill>
          <p:spPr>
            <a:xfrm>
              <a:off x="523800" y="5353200"/>
              <a:ext cx="1987560" cy="38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557280" y="5391000"/>
              <a:ext cx="19177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ffffff"/>
                  </a:solidFill>
                  <a:latin typeface="Calibri"/>
                </a:rPr>
                <a:t>Chemical Hazar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18:20:37Z</dcterms:created>
  <dc:creator>MRT</dc:creator>
  <dc:description/>
  <dc:language>en-US</dc:language>
  <cp:lastModifiedBy>دشئث</cp:lastModifiedBy>
  <dcterms:modified xsi:type="dcterms:W3CDTF">2010-10-16T17:55:37Z</dcterms:modified>
  <cp:revision>49</cp:revision>
  <dc:subject/>
  <dc:title>Slide 1</dc:title>
</cp:coreProperties>
</file>