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wmf" ContentType="image/x-wmf"/>
  <Override PartName="/ppt/media/image7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143080" y="685440"/>
            <a:ext cx="25718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4E919-C035-419D-B9B2-5D8A33E374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1FCF2-5951-44C3-AD0B-53E6D724E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48296-EEA6-4605-9FB9-7BAB39570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62A5E-8F9C-44E7-8446-148D99AE43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143080" y="685800"/>
            <a:ext cx="257184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1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6B5F6-DECB-426E-A908-2B019C5108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50E1B-B303-4AAF-8B64-55528458D5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36AD9-B152-444F-B5CB-02008309D0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D8C10-A017-4DA3-9A9A-12E8ED5B9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2324-60A8-4023-9C94-154B1A987E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12B04-8508-4CFF-9B68-5FC9F6B13E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E460-4B5D-4503-AF7B-C8419A8824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F5331-D41E-4418-8EEF-87AFBD9B6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4D2BA-EAC4-4A76-BADD-A06797EBF6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2106720" y="677880"/>
            <a:ext cx="2589120" cy="345132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896400" y="4354560"/>
            <a:ext cx="5085000" cy="4138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0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3F0A-B053-4C3C-B481-0F0CA5146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3F4E6-554D-419F-AF67-7027A37C0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D0832-4DF8-4DC4-9C2C-2346B30A4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64168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507640"/>
            <a:ext cx="187668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E6D2-C159-44AA-8636-B53CA324D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DC40C-90A1-4A2D-B21E-CBEF61FD7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20B6-F133-470E-B380-2DF561D70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EF120-06FA-4BDE-A7D7-CA9DA20E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5C8F-D7B5-4107-A200-C72355674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12520"/>
            <a:ext cx="582912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44723-1AD4-4F32-AA46-74D53F758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F407B-6670-479F-B042-914AC107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50764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8196-B2C6-4F83-A75E-6E7263F5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641680"/>
            <a:ext cx="284436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507640"/>
            <a:ext cx="58291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5589-D66B-4707-A893-AAB2FBA58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641680"/>
            <a:ext cx="58291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AFF81-9888-49E7-BAAF-B88C0264F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533520" y="1295280"/>
            <a:ext cx="5767200" cy="74678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 fontScale="95000"/>
          </a:bodyPr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Relationship between power,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current, voltage and resistance: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 = power (watt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 = current (ampere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V = voltage (volt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 = resistance (ohm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Heating tape uses 5 amps at 120 volts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5882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Power dissipated by this device is 600 watts.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6"/>
              <p:cNvSpPr txBox="1"/>
              <p:nvPr/>
            </p:nvSpPr>
            <p:spPr>
              <a:xfrm>
                <a:off x="2286000" y="3505320"/>
                <a:ext cx="2209680" cy="59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×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1" name="Text Box 7"/>
          <p:cNvSpPr/>
          <p:nvPr/>
        </p:nvSpPr>
        <p:spPr>
          <a:xfrm>
            <a:off x="441360" y="1413000"/>
            <a:ext cx="5883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" name="Object 10"/>
              <p:cNvSpPr txBox="1"/>
              <p:nvPr/>
            </p:nvSpPr>
            <p:spPr>
              <a:xfrm>
                <a:off x="2286000" y="2747880"/>
                <a:ext cx="2174760" cy="5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11"/>
              <p:cNvSpPr txBox="1"/>
              <p:nvPr/>
            </p:nvSpPr>
            <p:spPr>
              <a:xfrm>
                <a:off x="2286000" y="4272120"/>
                <a:ext cx="244008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77440" y="1523880"/>
            <a:ext cx="5770440" cy="653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Be careful with electricity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Ask someone for help if you are unsure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 rot="16200000">
            <a:off x="-322200" y="34686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5" descr="110-1018_IMG"/>
          <p:cNvPicPr/>
          <p:nvPr/>
        </p:nvPicPr>
        <p:blipFill>
          <a:blip r:embed="rId1"/>
          <a:stretch/>
        </p:blipFill>
        <p:spPr>
          <a:xfrm>
            <a:off x="1314360" y="2641680"/>
            <a:ext cx="474372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14440" y="812520"/>
            <a:ext cx="58291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3"/>
          <p:cNvSpPr/>
          <p:nvPr/>
        </p:nvSpPr>
        <p:spPr>
          <a:xfrm rot="16200000">
            <a:off x="-322200" y="346860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6" descr="110-1023_IMG"/>
          <p:cNvPicPr/>
          <p:nvPr/>
        </p:nvPicPr>
        <p:blipFill>
          <a:blip r:embed="rId1"/>
          <a:stretch/>
        </p:blipFill>
        <p:spPr>
          <a:xfrm>
            <a:off x="1200240" y="2641680"/>
            <a:ext cx="48006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AC vs. DC Electric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57704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 algn="ctr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Direct current (DC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C:\Documents and Settings\josh\Desktop\Graph1.EMF"/>
          <p:cNvPicPr/>
          <p:nvPr/>
        </p:nvPicPr>
        <p:blipFill>
          <a:blip r:embed="rId1"/>
          <a:stretch/>
        </p:blipFill>
        <p:spPr>
          <a:xfrm>
            <a:off x="914400" y="2209680"/>
            <a:ext cx="4610160" cy="56390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7"/>
          <p:cNvSpPr/>
          <p:nvPr/>
        </p:nvSpPr>
        <p:spPr>
          <a:xfrm>
            <a:off x="1518480" y="7848720"/>
            <a:ext cx="4060800" cy="4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3300"/>
                </a:solidFill>
                <a:latin typeface="Arial"/>
              </a:rPr>
              <a:t>Alternating current (AC)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 Equi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57708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ower requirements (input)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533520" y="3048120"/>
          <a:ext cx="6019560" cy="3689280"/>
        </p:xfrm>
        <a:graphic>
          <a:graphicData uri="http://schemas.openxmlformats.org/drawingml/2006/table">
            <a:tbl>
              <a:tblPr/>
              <a:tblGrid>
                <a:gridCol w="2619360"/>
                <a:gridCol w="1008000"/>
                <a:gridCol w="1173240"/>
                <a:gridCol w="12189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quipm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Vol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Amp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Wat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nit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urbopu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yopump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8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ting tape (big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.9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eat gu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Lethal Electricity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77440" y="1523880"/>
            <a:ext cx="5770440" cy="653112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/>
          </a:bodyPr>
          <a:p>
            <a:pPr marL="619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hart below assumes 1 second hand to foot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exposure to 120 volt, 60 cycle AC power supply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609480" y="2590920"/>
          <a:ext cx="5791320" cy="4917960"/>
        </p:xfrm>
        <a:graphic>
          <a:graphicData uri="http://schemas.openxmlformats.org/drawingml/2006/table">
            <a:tbl>
              <a:tblPr/>
              <a:tblGrid>
                <a:gridCol w="2210040"/>
                <a:gridCol w="358128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rren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c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ep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light shock felt; not painful but disturbin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30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inful shock; "let-go" rang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-150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treme pain, respiratory arrest, severe muscular contra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-4,300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tricular fibrilla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000+ mA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diac arrest, severe burns and probable deat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60"/>
          <p:cNvSpPr/>
          <p:nvPr/>
        </p:nvSpPr>
        <p:spPr>
          <a:xfrm>
            <a:off x="517680" y="7966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61"/>
          <p:cNvSpPr/>
          <p:nvPr/>
        </p:nvSpPr>
        <p:spPr>
          <a:xfrm>
            <a:off x="460440" y="7924680"/>
            <a:ext cx="61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aboratory wall outlets provide 20,000 mA 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afety Devi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77440" y="1523520"/>
            <a:ext cx="5770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Fuses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ect electrical wiring from carrying too much curr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ect malfunctioning equipment from drawing too much curr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ductor melts if too much current flows through fu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n only be used onc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lways use the correct fus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Group 15"/>
          <p:cNvGrpSpPr/>
          <p:nvPr/>
        </p:nvGrpSpPr>
        <p:grpSpPr>
          <a:xfrm>
            <a:off x="1371600" y="3809880"/>
            <a:ext cx="1563840" cy="1983600"/>
            <a:chOff x="1371600" y="3809880"/>
            <a:chExt cx="1563840" cy="1983600"/>
          </a:xfrm>
        </p:grpSpPr>
        <p:pic>
          <p:nvPicPr>
            <p:cNvPr id="69" name="Picture 11" descr="http://static.howstuffworks.com/gif/wfc-fuse-good.jpg"/>
            <p:cNvPicPr/>
            <p:nvPr/>
          </p:nvPicPr>
          <p:blipFill>
            <a:blip r:embed="rId1"/>
            <a:stretch/>
          </p:blipFill>
          <p:spPr>
            <a:xfrm>
              <a:off x="1371600" y="3809880"/>
              <a:ext cx="156384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Text Box 13"/>
            <p:cNvSpPr/>
            <p:nvPr/>
          </p:nvSpPr>
          <p:spPr>
            <a:xfrm>
              <a:off x="1450440" y="5333760"/>
              <a:ext cx="145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New fu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Group 16"/>
          <p:cNvGrpSpPr/>
          <p:nvPr/>
        </p:nvGrpSpPr>
        <p:grpSpPr>
          <a:xfrm>
            <a:off x="3581280" y="3809880"/>
            <a:ext cx="1710000" cy="1983600"/>
            <a:chOff x="3581280" y="3809880"/>
            <a:chExt cx="1710000" cy="1983600"/>
          </a:xfrm>
        </p:grpSpPr>
        <p:pic>
          <p:nvPicPr>
            <p:cNvPr id="72" name="Picture 7" descr="http://static.howstuffworks.com/gif/wfc-fuse-blown.jpg"/>
            <p:cNvPicPr/>
            <p:nvPr/>
          </p:nvPicPr>
          <p:blipFill>
            <a:blip r:embed="rId2"/>
            <a:stretch/>
          </p:blipFill>
          <p:spPr>
            <a:xfrm>
              <a:off x="3581280" y="3809880"/>
              <a:ext cx="1710000" cy="14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Text Box 14"/>
            <p:cNvSpPr/>
            <p:nvPr/>
          </p:nvSpPr>
          <p:spPr>
            <a:xfrm>
              <a:off x="3603600" y="5333760"/>
              <a:ext cx="166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Blown fu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afety Devi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77440" y="1523520"/>
            <a:ext cx="5770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Circuit Breaker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rotect electrical wiring from carrying too much curren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echanical switch is driven by an electromagnet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an only be reset many time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Group 13"/>
          <p:cNvGrpSpPr/>
          <p:nvPr/>
        </p:nvGrpSpPr>
        <p:grpSpPr>
          <a:xfrm>
            <a:off x="1655640" y="3230640"/>
            <a:ext cx="2381400" cy="2682720"/>
            <a:chOff x="1655640" y="3230640"/>
            <a:chExt cx="2381400" cy="2682720"/>
          </a:xfrm>
        </p:grpSpPr>
        <p:sp>
          <p:nvSpPr>
            <p:cNvPr id="77" name="Rectangle 10"/>
            <p:cNvSpPr/>
            <p:nvPr/>
          </p:nvSpPr>
          <p:spPr>
            <a:xfrm>
              <a:off x="1655640" y="32306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Rectangle 11"/>
            <p:cNvSpPr/>
            <p:nvPr/>
          </p:nvSpPr>
          <p:spPr>
            <a:xfrm>
              <a:off x="1655640" y="3230640"/>
              <a:ext cx="2381400" cy="26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  </a:t>
              </a:r>
              <a:r>
                <a:rPr b="0" lang="en-US" sz="161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</a:t>
              </a:r>
              <a:r>
                <a:rPr b="0" lang="en-US" sz="900" spc="-1" strike="noStrike">
                  <a:solidFill>
                    <a:srgbClr val="000000"/>
                  </a:solidFill>
                  <a:latin typeface="Arial"/>
                  <a:ea typeface="Arial"/>
                </a:rPr>
                <a:t>                                                                                                          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9" name="Picture 12" descr="http://static.howstuffworks.com/gif/circuit-breaker-diagram.gif"/>
          <p:cNvPicPr/>
          <p:nvPr/>
        </p:nvPicPr>
        <p:blipFill>
          <a:blip r:embed="rId1"/>
          <a:stretch/>
        </p:blipFill>
        <p:spPr>
          <a:xfrm>
            <a:off x="1143000" y="480060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afety Devic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77440" y="1523520"/>
            <a:ext cx="5770440" cy="670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Circuit Breaker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ne circuit breaker may cover many electrical receptacles in a lab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Receptacles in some labs are labeled with a number that corresponds to a circuit breaker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Object 8"/>
          <p:cNvGraphicFramePr/>
          <p:nvPr/>
        </p:nvGraphicFramePr>
        <p:xfrm>
          <a:off x="1066680" y="4876920"/>
          <a:ext cx="5079960" cy="333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876920"/>
                    <a:ext cx="5079960" cy="33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reventing Accident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5823000" cy="723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oid contact with energized circui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Disconnect the power source before servicing or repairing electrical equipment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Work with only one hand, keeping the other hand behind you or in a pock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f water or a chemical is spilled onto equipment, shut off power at the main switch or circuit breaker and unplug the equipme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f an individual comes in contact with a live electrical conductor, do not touch the equipment, cord or pers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Times New Roman"/>
              </a:rPr>
              <a:t>Disconnect the power source from the circuit breaker or pull out the plug using a leather belt 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85280" y="368280"/>
            <a:ext cx="582948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Preventing Accident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79096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ff"/>
                </a:solidFill>
                <a:latin typeface="Arial"/>
              </a:rPr>
              <a:t>Electrical Fire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Unplug equipment first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Use dry chemical fire extinguisher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If fire is large, unplug equipment and call fire dept.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-619200">
              <a:spcBef>
                <a:spcPts val="825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ff3300"/>
                </a:solidFill>
                <a:latin typeface="Arial"/>
              </a:rPr>
              <a:t>Never use water!!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61920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C:\Documents and Settings\josh\Application Data\Microsoft\Media Catalog\Downloaded Clips\cl0\HH00861_.wmf"/>
          <p:cNvPicPr/>
          <p:nvPr/>
        </p:nvPicPr>
        <p:blipFill>
          <a:blip r:embed="rId1"/>
          <a:stretch/>
        </p:blipFill>
        <p:spPr>
          <a:xfrm>
            <a:off x="4114800" y="1447920"/>
            <a:ext cx="808200" cy="1644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C:\Program Files\Common Files\Microsoft Shared\Clipart\cagcat50\bd06711_.wmf"/>
          <p:cNvPicPr/>
          <p:nvPr/>
        </p:nvPicPr>
        <p:blipFill>
          <a:blip r:embed="rId2"/>
          <a:stretch/>
        </p:blipFill>
        <p:spPr>
          <a:xfrm>
            <a:off x="4724280" y="7086600"/>
            <a:ext cx="1757520" cy="1627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8T14:02:02Z</dcterms:created>
  <dc:creator>josh</dc:creator>
  <dc:description/>
  <dc:language>en-US</dc:language>
  <cp:lastModifiedBy>دشئث</cp:lastModifiedBy>
  <dcterms:modified xsi:type="dcterms:W3CDTF">2010-10-16T15:59:47Z</dcterms:modified>
  <cp:revision>26</cp:revision>
  <dc:subject/>
  <dc:title>Electrical Safety in the Laboratory</dc:title>
</cp:coreProperties>
</file>