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0.jpeg" ContentType="image/jpeg"/>
  <Override PartName="/ppt/media/image35.jpeg" ContentType="image/jpeg"/>
  <Override PartName="/ppt/media/image8.jpeg" ContentType="image/jpeg"/>
  <Override PartName="/ppt/media/image39.jpeg" ContentType="image/jpeg"/>
  <Override PartName="/ppt/media/image34.png" ContentType="image/png"/>
  <Override PartName="/ppt/media/image12.jpeg" ContentType="image/jpeg"/>
  <Override PartName="/ppt/media/image23.png" ContentType="image/png"/>
  <Override PartName="/ppt/media/image40.jpeg" ContentType="image/jpeg"/>
  <Override PartName="/ppt/media/image13.jpeg" ContentType="image/jpeg"/>
  <Override PartName="/ppt/media/image33.png" ContentType="image/png"/>
  <Override PartName="/ppt/media/image42.jpeg" ContentType="image/jpeg"/>
  <Override PartName="/ppt/media/image28.png" ContentType="image/png"/>
  <Override PartName="/ppt/media/image38.jpeg" ContentType="image/jpeg"/>
  <Override PartName="/ppt/media/image7.jpeg" ContentType="image/jpeg"/>
  <Override PartName="/ppt/media/image20.png" ContentType="image/png"/>
  <Override PartName="/ppt/media/image36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7.jpeg" ContentType="image/jpeg"/>
  <Override PartName="/ppt/media/image3.jpeg" ContentType="image/jpeg"/>
  <Override PartName="/ppt/media/image1.png" ContentType="image/png"/>
  <Override PartName="/ppt/media/image3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30E5F-84F3-4C9F-8129-B05BB85B03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8F1C7-9425-48A6-9514-0647C3526B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3B97C-8D45-43A1-97C8-2F374753D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 &gt;12.5 or &lt;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causes visible destruction of, or irreversible alterations in, living tissue by chemical action at the point of contact.  This term does not refer to action on inanimate surfac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material that will corrode steel at a rate of 0.25 in. per ye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4A32-463E-4B0A-9D10-805881077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C9A8-5EDC-46E9-9E81-E8653604F8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FE7CB-A0BA-4D60-AC56-7009986BA7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609E7-8734-4316-BB27-9BA84AAEA2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929F-8A3D-41A3-8367-9BC947B991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CF98B-2C61-4948-8A24-0C9F46B133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hemical that reacts with water to release gas that is either flammable or presents a health haz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Potassium meta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07F0B-88FF-40E3-B9A1-EDD29EA5C4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E728-3BA3-4086-8066-EEA5845207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B23D-29A5-44DC-BD87-2611AD1D31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96794-DFF9-4354-AE1D-518387B5E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E9DA7-1BD2-4B9A-A0FF-A08F1C6256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9AD6F-BB4F-4BFC-9C60-4EC45B619D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7368-750C-4467-80FA-EF8B76CE9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E38D3-0E44-450E-8F0E-5E6D9E6482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94F89-9F4F-4263-89C6-4F6CDA73C0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1BE0B-7820-4F8B-B352-ACB337427D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E39F-B65D-4083-894A-2322E39C1E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1B756-CE4A-4FC8-B2F7-10B4352146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3373-6B44-4F95-9AA7-B52EA29DF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045EA-B8FF-4539-A1CA-1D92B9517E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E3404-E1A5-48D7-B0CC-208346A9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8CB78-6B46-42EB-90FC-2DC4048A7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2513E-BD5A-46F7-BCDA-96207B354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06286-6662-4B13-9836-D415848EE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C90C4-5A10-4583-B288-4E72D0F1A2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3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8DDC2-0FBE-4E82-8189-BC1DE5AF0B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F9E0-CAE1-49A7-A9E8-F7EFDAA320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58D9-6D95-42D9-AC3D-7C69CCB19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1340E-2694-4226-9FE8-DAEB52823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80E37-3330-45FF-930D-43E592DC5D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CF08-A317-42A9-8631-DD436028C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qu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point below 20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ambient temp. and pres. forms a range of flammable mixtures wider than 12% by volume regardless of 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able to cause fire through friction, absorption of moisture, spontaneous chemical change, or which can be ignited readily burning at a rate of greater than 1/10 in. per seco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1200" spc="-1" strike="noStrike">
              <a:solidFill>
                <a:srgbClr val="000000"/>
              </a:solidFill>
              <a:latin typeface="Times New Roman"/>
              <a:ea typeface="Arial"/>
            </a:endParaRPr>
          </a:p>
        </p:txBody>
      </p:sp>
      <p:sp>
        <p:nvSpPr>
          <p:cNvPr id="2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F415A-1C16-4810-AFA5-4454DEFA8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05828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636960" y="198072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47960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405828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636960" y="4010760"/>
            <a:ext cx="245556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87400" y="401076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387400" y="1980720"/>
            <a:ext cx="372132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479600" y="4010760"/>
            <a:ext cx="7626240" cy="185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36128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26"/>
          <p:cNvGrpSpPr/>
          <p:nvPr/>
        </p:nvGrpSpPr>
        <p:grpSpPr>
          <a:xfrm>
            <a:off x="1576440" y="1631880"/>
            <a:ext cx="7567560" cy="209520"/>
            <a:chOff x="1576440" y="1631880"/>
            <a:chExt cx="7567560" cy="209520"/>
          </a:xfrm>
        </p:grpSpPr>
        <p:grpSp>
          <p:nvGrpSpPr>
            <p:cNvPr id="6" name="Group 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7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" name="Line 22"/>
            <p:cNvSpPr/>
            <p:nvPr/>
          </p:nvSpPr>
          <p:spPr>
            <a:xfrm>
              <a:off x="1585800" y="180036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3"/>
            <p:cNvSpPr/>
            <p:nvPr/>
          </p:nvSpPr>
          <p:spPr>
            <a:xfrm>
              <a:off x="1587600" y="175248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Freeform 24"/>
            <p:cNvSpPr/>
            <p:nvPr/>
          </p:nvSpPr>
          <p:spPr>
            <a:xfrm>
              <a:off x="1576440" y="165276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" name="Picture 28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0" y="0"/>
            <a:ext cx="1465200" cy="685656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Group 40"/>
          <p:cNvGrpSpPr/>
          <p:nvPr/>
        </p:nvGrpSpPr>
        <p:grpSpPr>
          <a:xfrm>
            <a:off x="1576440" y="3200400"/>
            <a:ext cx="7567560" cy="209520"/>
            <a:chOff x="1576440" y="3200400"/>
            <a:chExt cx="7567560" cy="209520"/>
          </a:xfrm>
        </p:grpSpPr>
        <p:grpSp>
          <p:nvGrpSpPr>
            <p:cNvPr id="55" name="Group 41"/>
            <p:cNvGrpSpPr/>
            <p:nvPr/>
          </p:nvGrpSpPr>
          <p:grpSpPr>
            <a:xfrm>
              <a:off x="1576440" y="3200400"/>
              <a:ext cx="7566120" cy="189000"/>
              <a:chOff x="1576440" y="3200400"/>
              <a:chExt cx="7566120" cy="189000"/>
            </a:xfrm>
          </p:grpSpPr>
          <p:sp>
            <p:nvSpPr>
              <p:cNvPr id="56" name="Rectangle 42"/>
              <p:cNvSpPr/>
              <p:nvPr/>
            </p:nvSpPr>
            <p:spPr>
              <a:xfrm>
                <a:off x="1581120" y="3211560"/>
                <a:ext cx="7561440" cy="168120"/>
              </a:xfrm>
              <a:prstGeom prst="rect">
                <a:avLst/>
              </a:prstGeom>
              <a:solidFill>
                <a:srgbClr val="000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Line 43"/>
              <p:cNvSpPr/>
              <p:nvPr/>
            </p:nvSpPr>
            <p:spPr>
              <a:xfrm>
                <a:off x="1585800" y="338616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Line 44"/>
              <p:cNvSpPr/>
              <p:nvPr/>
            </p:nvSpPr>
            <p:spPr>
              <a:xfrm>
                <a:off x="1585800" y="3348000"/>
                <a:ext cx="7556760" cy="0"/>
              </a:xfrm>
              <a:prstGeom prst="line">
                <a:avLst/>
              </a:prstGeom>
              <a:ln w="1260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Line 45"/>
              <p:cNvSpPr/>
              <p:nvPr/>
            </p:nvSpPr>
            <p:spPr>
              <a:xfrm>
                <a:off x="1585800" y="3300480"/>
                <a:ext cx="7556760" cy="0"/>
              </a:xfrm>
              <a:prstGeom prst="line">
                <a:avLst/>
              </a:prstGeom>
              <a:ln w="12600">
                <a:solidFill>
                  <a:srgbClr val="66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Line 46"/>
              <p:cNvSpPr/>
              <p:nvPr/>
            </p:nvSpPr>
            <p:spPr>
              <a:xfrm>
                <a:off x="1585800" y="3246480"/>
                <a:ext cx="7556760" cy="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47"/>
              <p:cNvSpPr/>
              <p:nvPr/>
            </p:nvSpPr>
            <p:spPr>
              <a:xfrm>
                <a:off x="1576440" y="3200400"/>
                <a:ext cx="7564320" cy="189000"/>
              </a:xfrm>
              <a:prstGeom prst="pie">
                <a:avLst/>
              </a:prstGeom>
              <a:noFill/>
              <a:ln cap="rnd" w="12600">
                <a:solidFill>
                  <a:srgbClr val="99cc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2" name="Line 48"/>
            <p:cNvSpPr/>
            <p:nvPr/>
          </p:nvSpPr>
          <p:spPr>
            <a:xfrm>
              <a:off x="1585800" y="3368880"/>
              <a:ext cx="7556760" cy="0"/>
            </a:xfrm>
            <a:prstGeom prst="line">
              <a:avLst/>
            </a:prstGeom>
            <a:ln w="1260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Line 49"/>
            <p:cNvSpPr/>
            <p:nvPr/>
          </p:nvSpPr>
          <p:spPr>
            <a:xfrm>
              <a:off x="1587600" y="3321000"/>
              <a:ext cx="7556400" cy="0"/>
            </a:xfrm>
            <a:prstGeom prst="line">
              <a:avLst/>
            </a:prstGeom>
            <a:ln w="12600">
              <a:solidFill>
                <a:srgbClr val="66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Freeform 50"/>
            <p:cNvSpPr/>
            <p:nvPr/>
          </p:nvSpPr>
          <p:spPr>
            <a:xfrm>
              <a:off x="1576440" y="3221280"/>
              <a:ext cx="7564320" cy="188640"/>
            </a:xfrm>
            <a:prstGeom prst="pie">
              <a:avLst/>
            </a:prstGeom>
            <a:noFill/>
            <a:ln cap="rnd" w="1260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65" name="Picture 53" descr="Blue-blk"/>
          <p:cNvPicPr/>
          <p:nvPr/>
        </p:nvPicPr>
        <p:blipFill>
          <a:blip r:embed="rId3"/>
          <a:stretch/>
        </p:blipFill>
        <p:spPr>
          <a:xfrm>
            <a:off x="228600" y="5830920"/>
            <a:ext cx="1066680" cy="66528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dt" idx="3"/>
          </p:nvPr>
        </p:nvSpPr>
        <p:spPr>
          <a:xfrm>
            <a:off x="7238520" y="640080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ftr" idx="4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chemlabs.uoregon.edu/Safety/map/nfpadiamond.map" TargetMode="External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lpi.com/msds/ref/acid.html" TargetMode="External"/><Relationship Id="rId2" Type="http://schemas.openxmlformats.org/officeDocument/2006/relationships/hyperlink" Target="http://www.ilpi.com/msds/ref/corrosive.html" TargetMode="External"/><Relationship Id="rId3" Type="http://schemas.openxmlformats.org/officeDocument/2006/relationships/hyperlink" Target="http://www.ilpi.com/msds/ref/ph.html" TargetMode="External"/><Relationship Id="rId4" Type="http://schemas.openxmlformats.org/officeDocument/2006/relationships/hyperlink" Target="http://www.ilpi.com/msds/ref/base.html" TargetMode="External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oregonstate.edu/research/Images/hazbio.gif&amp;imgrefurl=http://oregonstate.edu/research/1old/News/04sumnews.html&amp;h=487&amp;w=512&amp;sz=20&amp;tbnid=FltTi8FN-Ad_mM:&amp;tbnh=125&amp;tbnw=131&amp;prev=/images%3Fq%3Dbiohazard%2Bsymbol&amp;start=2&amp;ei=JvykRbK7PJC4iwHQia3vBQ&amp;sig2=t0XsrG4VlVXycbDfZtAbXg&amp;sa=X&amp;oi=images&amp;ct=image&amp;cd=2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images.google.com/imgres?imgurl=http://www.teachnet.ie/dkeenahan/2004/Images/Radiation%2520symbol%25202%2520J.jpg&amp;imgrefurl=http://www.teachnet.ie/dkeenahan/2004/page41.html&amp;h=247&amp;w=264&amp;sz=9&amp;tbnid=q58_UDK7Pu2bmM:&amp;tbnh=105&amp;tbnw=112&amp;prev=/images%3Fq%3Dradiation%2Bsymbol&amp;start=3&amp;ei=TPykRbn-FZDYigHXmYDlBQ&amp;sig2=GYgQdEHQ1k9KbQmSwgUWGA&amp;sa=X&amp;oi=images&amp;ct=image&amp;cd=3" TargetMode="External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hyperlink" Target="http://images.google.com/imgres?imgurl=http://www.globescientific.com/globe_needle_holder.gif&amp;imgrefurl=http://www.globescientific.com/cpage28a-needle.html&amp;h=941&amp;w=1456&amp;sz=508&amp;hl=en&amp;start=1&amp;tbnid=kGBaDivi3wY9iM:&amp;tbnh=97&amp;tbnw=150&amp;prev=/images%3Fq%3Dneedle%26svnum%3D10%26hl%3Den%26lr%3D" TargetMode="External"/><Relationship Id="rId7" Type="http://schemas.openxmlformats.org/officeDocument/2006/relationships/image" Target="../media/image7.jpeg"/><Relationship Id="rId8" Type="http://schemas.openxmlformats.org/officeDocument/2006/relationships/hyperlink" Target="http://images.google.com/imgres?imgurl=http://www.worldofmolecules.com/solvents/benzene.gif&amp;imgrefurl=http://www.worldofmolecules.com/solvents/benzene.htm&amp;h=242&amp;w=251&amp;sz=6&amp;hl=en&amp;start=1&amp;tbnid=lwc48qHliqSHtM:&amp;tbnh=107&amp;tbnw=111&amp;prev=/images%3Fq%3Dbenzene%26svnum%3D10%26hl%3Den%26lr%3D" TargetMode="External"/><Relationship Id="rId9" Type="http://schemas.openxmlformats.org/officeDocument/2006/relationships/image" Target="../media/image8.jpeg"/><Relationship Id="rId10" Type="http://schemas.openxmlformats.org/officeDocument/2006/relationships/hyperlink" Target="http://images.google.com/imgres?imgurl=http://www.artchive.com/artchive/g/goodman/goodman_night_burn.jpg&amp;imgrefurl=http://artchive.com/artchive/G/goodman/goodman_night_burn.jpg.html&amp;h=835&amp;w=630&amp;sz=80&amp;hl=en&amp;sig2=g0CPj7-ox-t5_T8wxyb9ag&amp;start=3&amp;tbnid=nyG46gQzNWIVmM:&amp;tbnh=144&amp;tbnw=109&amp;ei=N_2kRebsCYvIiwG1kun8BQ&amp;prev=/images%3Fq%3Dburn%26svnum%3D10%26hl%3Den%26lr%3D" TargetMode="External"/><Relationship Id="rId11" Type="http://schemas.openxmlformats.org/officeDocument/2006/relationships/image" Target="../media/image9.jpeg"/><Relationship Id="rId12" Type="http://schemas.openxmlformats.org/officeDocument/2006/relationships/hyperlink" Target="http://images.google.com/imgres?imgurl=http://oregonstate.edu/~brookhac/uploaded_images/tripping-729005.jpg&amp;imgrefurl=http://oregonstate.edu/~brookhac/2005_12_01_theblueflower_archive.html&amp;h=285&amp;w=400&amp;sz=12&amp;hl=en&amp;sig2=X1fgOb4GRvwLzC4K1ApKpw&amp;start=1&amp;tbnid=vX4HxNFeWQox7M:&amp;tbnh=88&amp;tbnw=124&amp;ei=U_2kRZHkJc24igH9pYjgBQ&amp;prev=/images%3Fq%3Dtripping%26svnum%3D10%26hl%3Den%26lr%3D" TargetMode="External"/><Relationship Id="rId13" Type="http://schemas.openxmlformats.org/officeDocument/2006/relationships/image" Target="../media/image10.jpeg"/><Relationship Id="rId14" Type="http://schemas.openxmlformats.org/officeDocument/2006/relationships/hyperlink" Target="http://images.google.com/imgres?imgurl=http://offices.colgate.edu/chemmgt/images/gascylinders1.jpg&amp;imgrefurl=http://offices.colgate.edu/chemmgt/picturegallery.htm&amp;h=480&amp;w=640&amp;sz=32&amp;hl=en&amp;start=13&amp;tbnid=7kEDXWSgmm0Q0M:&amp;tbnh=103&amp;tbnw=137&amp;prev=/images%3Fq%3Dgas%2Bcylinder%26svnum%3D10%26hl%3Den%26lr%3D%26sa%3DX" TargetMode="External"/><Relationship Id="rId15" Type="http://schemas.openxmlformats.org/officeDocument/2006/relationships/image" Target="../media/image11.jpeg"/><Relationship Id="rId16" Type="http://schemas.openxmlformats.org/officeDocument/2006/relationships/hyperlink" Target="http://images.google.com/imgres?imgurl=http://www.microbiol.unimelb.edu.au/staff/ehs/hazdiamonds.images/corrosive.gif&amp;imgrefurl=http://www.microbiol.unimelb.edu.au/staff/ehs/hazdiamonds.html&amp;h=211&amp;w=210&amp;sz=13&amp;hl=en&amp;sig2=VscSB2kzDMlu7JZWtTHP5w&amp;start=6&amp;tbnid=9nMROHk6-OdllM:&amp;tbnh=106&amp;tbnw=105&amp;ei=BP6kRfxvv8aLAfOEmfwF&amp;prev=/images%3Fq%3Dchemical%2Bhazard%26svnum%3D10%26hl%3Den%26lr%3D" TargetMode="External"/><Relationship Id="rId17" Type="http://schemas.openxmlformats.org/officeDocument/2006/relationships/image" Target="../media/image12.jpeg"/><Relationship Id="rId18" Type="http://schemas.openxmlformats.org/officeDocument/2006/relationships/hyperlink" Target="http://images.google.com/imgres?imgurl=http://images.encarta.msn.com/xrefmedia/sharemed/targets/images/pho/t014/T014510A.jpg&amp;imgrefurl=http://encarta.msn.com/media_461517901_761563758_-1_1/Liquid_Nitrogen.html&amp;h=336&amp;w=500&amp;sz=19&amp;hl=en&amp;start=4&amp;tbnid=12tTu4JRrYuoCM:&amp;tbnh=87&amp;tbnw=130&amp;prev=/images%3Fq%3Dliquid%2Bnitrogen%26svnum%3D10%26hl%3Den%26lr%3D" TargetMode="External"/><Relationship Id="rId19" Type="http://schemas.openxmlformats.org/officeDocument/2006/relationships/image" Target="../media/image13.jpeg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azar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109-0979_IMG"/>
          <p:cNvPicPr/>
          <p:nvPr/>
        </p:nvPicPr>
        <p:blipFill>
          <a:blip r:embed="rId1"/>
          <a:stretch/>
        </p:blipFill>
        <p:spPr>
          <a:xfrm>
            <a:off x="3505320" y="1828800"/>
            <a:ext cx="3600360" cy="4800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 &gt;12.5 or &lt;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material that will corrode steel at a rate of 0.25 in. per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uses visible destruction of living tiss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3" descr="oxygenlabel"/>
          <p:cNvPicPr/>
          <p:nvPr/>
        </p:nvPicPr>
        <p:blipFill>
          <a:blip r:embed="rId1"/>
          <a:stretch/>
        </p:blipFill>
        <p:spPr>
          <a:xfrm>
            <a:off x="3657600" y="1752480"/>
            <a:ext cx="3008160" cy="4876920"/>
          </a:xfrm>
          <a:prstGeom prst="rect">
            <a:avLst/>
          </a:prstGeom>
          <a:ln w="0">
            <a:noFill/>
          </a:ln>
        </p:spPr>
      </p:pic>
      <p:sp>
        <p:nvSpPr>
          <p:cNvPr id="156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initiates or promotes combustion in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aterial that may, generally by yielding oxygen, cause or enhance the combustion of other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lower the ignition temperature and flash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3" descr="toxic-chemical"/>
          <p:cNvPicPr/>
          <p:nvPr/>
        </p:nvPicPr>
        <p:blipFill>
          <a:blip r:embed="rId1"/>
          <a:stretch/>
        </p:blipFill>
        <p:spPr>
          <a:xfrm>
            <a:off x="3429000" y="1981080"/>
            <a:ext cx="3468600" cy="4648320"/>
          </a:xfrm>
          <a:prstGeom prst="rect">
            <a:avLst/>
          </a:prstGeom>
          <a:ln w="0">
            <a:noFill/>
          </a:ln>
        </p:spPr>
      </p:pic>
      <p:sp>
        <p:nvSpPr>
          <p:cNvPr id="162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oxic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D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low 50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ute toxics below 50 mg/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emical that reacts with water to release gas that is either flammable or presents a health haz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-- Chemical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F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er lab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V/P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OSH pocket gu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bottle labe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IMG_0066_13_1"/>
          <p:cNvPicPr/>
          <p:nvPr/>
        </p:nvPicPr>
        <p:blipFill>
          <a:blip r:embed="rId1"/>
          <a:stretch/>
        </p:blipFill>
        <p:spPr>
          <a:xfrm>
            <a:off x="2438280" y="1981080"/>
            <a:ext cx="5257800" cy="3944880"/>
          </a:xfrm>
          <a:prstGeom prst="rect">
            <a:avLst/>
          </a:prstGeom>
          <a:ln w="0">
            <a:noFill/>
          </a:ln>
        </p:spPr>
      </p:pic>
      <p:sp>
        <p:nvSpPr>
          <p:cNvPr id="177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n……and……No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biosafety photo"/>
          <p:cNvPicPr/>
          <p:nvPr/>
        </p:nvPicPr>
        <p:blipFill>
          <a:blip r:embed="rId1"/>
          <a:stretch/>
        </p:blipFill>
        <p:spPr>
          <a:xfrm>
            <a:off x="4038480" y="2895480"/>
            <a:ext cx="3962520" cy="28083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7" name=""/>
          <p:cNvSpPr txBox="1"/>
          <p:nvPr/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FPA Diamon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447560" y="3886200"/>
            <a:ext cx="7467480" cy="2743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 sections colored blue, red, yellow and wh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zards are rated on a scale of 5, 4 being high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ed diamo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t for fire fighters and emergency respo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te area used for spec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[Hazard Diamond]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191120" y="1905120"/>
            <a:ext cx="1855800" cy="185580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mmon Symbo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479240" y="1980720"/>
            <a:ext cx="73594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I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ndicates that the material is an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aci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corrosive material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hat has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p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low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K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n alkaline material, also called a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bas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These caustic materials have a pH greater than 7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denotes a material that is corrosive (it could be either an acid or a bas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s is a another symbol used for corrosiv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skull and crossbones is used to denote a poison or highly toxic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adioactive haza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tes an explosive material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corrosive, hand burned by acid"/>
          <p:cNvPicPr/>
          <p:nvPr/>
        </p:nvPicPr>
        <p:blipFill>
          <a:blip r:embed="rId5"/>
          <a:stretch/>
        </p:blipFill>
        <p:spPr>
          <a:xfrm>
            <a:off x="1905120" y="342900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5" descr="poison, skull and crossbones"/>
          <p:cNvPicPr/>
          <p:nvPr/>
        </p:nvPicPr>
        <p:blipFill>
          <a:blip r:embed="rId6"/>
          <a:stretch/>
        </p:blipFill>
        <p:spPr>
          <a:xfrm>
            <a:off x="1905120" y="4267080"/>
            <a:ext cx="761760" cy="5716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Radioactive"/>
          <p:cNvPicPr/>
          <p:nvPr/>
        </p:nvPicPr>
        <p:blipFill>
          <a:blip r:embed="rId7"/>
          <a:stretch/>
        </p:blipFill>
        <p:spPr>
          <a:xfrm>
            <a:off x="1905120" y="5105520"/>
            <a:ext cx="761760" cy="57132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Explosive"/>
          <p:cNvPicPr/>
          <p:nvPr/>
        </p:nvPicPr>
        <p:blipFill>
          <a:blip r:embed="rId8"/>
          <a:stretch/>
        </p:blipFill>
        <p:spPr>
          <a:xfrm>
            <a:off x="1905120" y="5943600"/>
            <a:ext cx="761760" cy="57168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8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17760" y="609588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MSDS for the chemic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IMG_0198_1_1"/>
          <p:cNvPicPr/>
          <p:nvPr/>
        </p:nvPicPr>
        <p:blipFill>
          <a:blip r:embed="rId1"/>
          <a:stretch/>
        </p:blipFill>
        <p:spPr>
          <a:xfrm>
            <a:off x="2590920" y="1905120"/>
            <a:ext cx="5560920" cy="417024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5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1517760" y="5943600"/>
            <a:ext cx="762624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Health and Safety offic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4" descr="IMG_5206_7_1"/>
          <p:cNvPicPr/>
          <p:nvPr/>
        </p:nvPicPr>
        <p:blipFill>
          <a:blip r:embed="rId1"/>
          <a:stretch/>
        </p:blipFill>
        <p:spPr>
          <a:xfrm>
            <a:off x="1905120" y="1981080"/>
            <a:ext cx="2971800" cy="39625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6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69040" y="1981080"/>
            <a:ext cx="3736800" cy="186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2" descr="101-0165_IMG"/>
          <p:cNvPicPr/>
          <p:nvPr/>
        </p:nvPicPr>
        <p:blipFill>
          <a:blip r:embed="rId1"/>
          <a:stretch/>
        </p:blipFill>
        <p:spPr>
          <a:xfrm>
            <a:off x="3657600" y="2133720"/>
            <a:ext cx="2438280" cy="32511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azard Evalu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Aldrich"/>
          <p:cNvPicPr/>
          <p:nvPr/>
        </p:nvPicPr>
        <p:blipFill>
          <a:blip r:embed="rId2"/>
          <a:stretch/>
        </p:blipFill>
        <p:spPr>
          <a:xfrm>
            <a:off x="1371600" y="3581280"/>
            <a:ext cx="2438280" cy="58752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17760" y="6210000"/>
            <a:ext cx="7626240" cy="64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ct the manufactu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6" descr="Sigma"/>
          <p:cNvPicPr/>
          <p:nvPr/>
        </p:nvPicPr>
        <p:blipFill>
          <a:blip r:embed="rId3"/>
          <a:stretch/>
        </p:blipFill>
        <p:spPr>
          <a:xfrm>
            <a:off x="1752480" y="2057400"/>
            <a:ext cx="1981440" cy="476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supelco1"/>
          <p:cNvPicPr/>
          <p:nvPr/>
        </p:nvPicPr>
        <p:blipFill>
          <a:blip r:embed="rId4"/>
          <a:stretch/>
        </p:blipFill>
        <p:spPr>
          <a:xfrm>
            <a:off x="6248520" y="3352680"/>
            <a:ext cx="1904760" cy="4572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r1_c1"/>
          <p:cNvPicPr/>
          <p:nvPr/>
        </p:nvPicPr>
        <p:blipFill>
          <a:blip r:embed="rId5"/>
          <a:srcRect l="14014" t="0" r="49062" b="9599"/>
          <a:stretch/>
        </p:blipFill>
        <p:spPr>
          <a:xfrm>
            <a:off x="7315200" y="2362320"/>
            <a:ext cx="963720" cy="8604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Mallinckrodt logo"/>
          <p:cNvPicPr/>
          <p:nvPr/>
        </p:nvPicPr>
        <p:blipFill>
          <a:blip r:embed="rId6"/>
          <a:stretch/>
        </p:blipFill>
        <p:spPr>
          <a:xfrm>
            <a:off x="6248520" y="4191120"/>
            <a:ext cx="2361960" cy="54900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10" descr="header_left"/>
          <p:cNvPicPr/>
          <p:nvPr/>
        </p:nvPicPr>
        <p:blipFill>
          <a:blip r:embed="rId7"/>
          <a:stretch/>
        </p:blipFill>
        <p:spPr>
          <a:xfrm>
            <a:off x="5334120" y="1981080"/>
            <a:ext cx="1733400" cy="75096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11" descr="biorad_logo"/>
          <p:cNvPicPr/>
          <p:nvPr/>
        </p:nvPicPr>
        <p:blipFill>
          <a:blip r:embed="rId8"/>
          <a:srcRect l="0" t="0" r="0" b="24008"/>
          <a:stretch/>
        </p:blipFill>
        <p:spPr>
          <a:xfrm>
            <a:off x="6019920" y="5181480"/>
            <a:ext cx="1981080" cy="61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12" descr="Oxoid - Dedicated to Microbiology"/>
          <p:cNvPicPr/>
          <p:nvPr/>
        </p:nvPicPr>
        <p:blipFill>
          <a:blip r:embed="rId9"/>
          <a:srcRect l="12799" t="0" r="12799" b="30976"/>
          <a:stretch/>
        </p:blipFill>
        <p:spPr>
          <a:xfrm>
            <a:off x="1981080" y="5105520"/>
            <a:ext cx="1828800" cy="701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13"/>
          <p:cNvSpPr/>
          <p:nvPr/>
        </p:nvSpPr>
        <p:spPr>
          <a:xfrm rot="16200000">
            <a:off x="-64440" y="262908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500"/>
                            </p:stCondLst>
                            <p:childTnLst>
                              <p:par>
                                <p:cTn id="1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20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2500"/>
                            </p:stCondLst>
                            <p:childTnLst>
                              <p:par>
                                <p:cTn id="17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3000"/>
                            </p:stCondLst>
                            <p:childTnLst>
                              <p:par>
                                <p:cTn id="184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3500"/>
                            </p:stCondLst>
                            <p:childTnLst>
                              <p:par>
                                <p:cTn id="1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523880" y="5867280"/>
            <a:ext cx="693432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mical fume ho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IMG_0201_4_1"/>
          <p:cNvPicPr/>
          <p:nvPr/>
        </p:nvPicPr>
        <p:blipFill>
          <a:blip r:embed="rId1"/>
          <a:stretch/>
        </p:blipFill>
        <p:spPr>
          <a:xfrm>
            <a:off x="2666880" y="1905120"/>
            <a:ext cx="5334120" cy="4000320"/>
          </a:xfrm>
          <a:prstGeom prst="rect">
            <a:avLst/>
          </a:prstGeom>
          <a:ln w="0">
            <a:noFill/>
          </a:ln>
        </p:spPr>
      </p:pic>
      <p:sp>
        <p:nvSpPr>
          <p:cNvPr id="213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373680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4" descr="IMG_0208_11_1"/>
          <p:cNvPicPr/>
          <p:nvPr/>
        </p:nvPicPr>
        <p:blipFill>
          <a:blip r:embed="rId1"/>
          <a:stretch/>
        </p:blipFill>
        <p:spPr>
          <a:xfrm>
            <a:off x="3657600" y="2514600"/>
            <a:ext cx="5105520" cy="38289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Ventilatio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5588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nork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4" descr="IMG_0202_5_1"/>
          <p:cNvPicPr/>
          <p:nvPr/>
        </p:nvPicPr>
        <p:blipFill>
          <a:blip r:embed="rId1"/>
          <a:stretch/>
        </p:blipFill>
        <p:spPr>
          <a:xfrm>
            <a:off x="2895480" y="2629080"/>
            <a:ext cx="5410440" cy="405756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5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3" descr="IMG_0209_12_1"/>
          <p:cNvPicPr/>
          <p:nvPr/>
        </p:nvPicPr>
        <p:blipFill>
          <a:blip r:embed="rId1"/>
          <a:stretch/>
        </p:blipFill>
        <p:spPr>
          <a:xfrm>
            <a:off x="3429000" y="1981080"/>
            <a:ext cx="3486240" cy="464832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ig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Picture 3" descr="IMG_0205_8_1"/>
          <p:cNvPicPr/>
          <p:nvPr/>
        </p:nvPicPr>
        <p:blipFill>
          <a:blip r:embed="rId1"/>
          <a:stretch/>
        </p:blipFill>
        <p:spPr>
          <a:xfrm>
            <a:off x="2209680" y="1981080"/>
            <a:ext cx="6248520" cy="4686480"/>
          </a:xfrm>
          <a:prstGeom prst="rect">
            <a:avLst/>
          </a:prstGeom>
          <a:ln w="0">
            <a:noFill/>
          </a:ln>
        </p:spPr>
      </p:pic>
      <p:sp>
        <p:nvSpPr>
          <p:cNvPr id="227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What will we learn today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hod to identify and control workplace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laboratory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xposure Control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ure deter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of haza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rd kee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hemical Hygiene Pla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rul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mical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al monito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usekeep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dica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s and lab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ersonal Protective Equipmen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ety gla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 co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ir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4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P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IMG_0008_2_8_1"/>
          <p:cNvPicPr/>
          <p:nvPr/>
        </p:nvPicPr>
        <p:blipFill>
          <a:blip r:embed="rId1"/>
          <a:stretch/>
        </p:blipFill>
        <p:spPr>
          <a:xfrm>
            <a:off x="1600200" y="1905120"/>
            <a:ext cx="2343240" cy="312408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ron"/>
          <p:cNvPicPr/>
          <p:nvPr/>
        </p:nvPicPr>
        <p:blipFill>
          <a:blip r:embed="rId2"/>
          <a:stretch/>
        </p:blipFill>
        <p:spPr>
          <a:xfrm>
            <a:off x="6324480" y="1905120"/>
            <a:ext cx="2684520" cy="312408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5" descr="IMG_5216_17_1"/>
          <p:cNvPicPr/>
          <p:nvPr/>
        </p:nvPicPr>
        <p:blipFill>
          <a:blip r:embed="rId3"/>
          <a:stretch/>
        </p:blipFill>
        <p:spPr>
          <a:xfrm>
            <a:off x="3733920" y="3124080"/>
            <a:ext cx="2685960" cy="358164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6"/>
          <p:cNvSpPr/>
          <p:nvPr/>
        </p:nvSpPr>
        <p:spPr>
          <a:xfrm rot="16200000">
            <a:off x="130320" y="2823120"/>
            <a:ext cx="11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7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8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9" dur="100" autoRev="1" fill="hold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4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2590920" y="3559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0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1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67500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cip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process before getting sta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5" descr="http://oregonstate.edu/research/1old/News/04sumnews.htm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523880" y="3429000"/>
            <a:ext cx="1247760" cy="11905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http://www.teachnet.ie/dkeenahan/2004/page41.htm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3809880"/>
            <a:ext cx="1066680" cy="1000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1" descr="NFPA_Diamond"/>
          <p:cNvPicPr/>
          <p:nvPr/>
        </p:nvPicPr>
        <p:blipFill>
          <a:blip r:embed="rId5"/>
          <a:stretch/>
        </p:blipFill>
        <p:spPr>
          <a:xfrm>
            <a:off x="4038480" y="3429000"/>
            <a:ext cx="1352520" cy="14479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globe_needle_holder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5867280" y="3581280"/>
            <a:ext cx="1428840" cy="9241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5" descr="benzene">
            <a:hlinkClick r:id="rId8"/>
          </p:cNvPr>
          <p:cNvPicPr/>
          <p:nvPr/>
        </p:nvPicPr>
        <p:blipFill>
          <a:blip r:embed="rId9"/>
          <a:stretch/>
        </p:blipFill>
        <p:spPr>
          <a:xfrm>
            <a:off x="5257800" y="4952880"/>
            <a:ext cx="1057320" cy="10191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7" descr="goodman_night_burn">
            <a:hlinkClick r:id="rId10"/>
          </p:cNvPr>
          <p:cNvPicPr/>
          <p:nvPr/>
        </p:nvPicPr>
        <p:blipFill>
          <a:blip r:embed="rId11"/>
          <a:stretch/>
        </p:blipFill>
        <p:spPr>
          <a:xfrm>
            <a:off x="2819520" y="5029200"/>
            <a:ext cx="1038240" cy="1371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9" descr="tripping-729005">
            <a:hlinkClick r:id="rId12"/>
          </p:cNvPr>
          <p:cNvPicPr/>
          <p:nvPr/>
        </p:nvPicPr>
        <p:blipFill>
          <a:blip r:embed="rId13"/>
          <a:stretch/>
        </p:blipFill>
        <p:spPr>
          <a:xfrm>
            <a:off x="7696080" y="3124080"/>
            <a:ext cx="1181160" cy="8384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7" descr="gascylinders1">
            <a:hlinkClick r:id="rId14"/>
          </p:cNvPr>
          <p:cNvPicPr/>
          <p:nvPr/>
        </p:nvPicPr>
        <p:blipFill>
          <a:blip r:embed="rId15"/>
          <a:stretch/>
        </p:blipFill>
        <p:spPr>
          <a:xfrm>
            <a:off x="7543800" y="5486400"/>
            <a:ext cx="1305000" cy="981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9" descr="corrosive">
            <a:hlinkClick r:id="rId16"/>
          </p:cNvPr>
          <p:cNvPicPr/>
          <p:nvPr/>
        </p:nvPicPr>
        <p:blipFill>
          <a:blip r:embed="rId17"/>
          <a:stretch/>
        </p:blipFill>
        <p:spPr>
          <a:xfrm>
            <a:off x="6400800" y="4876920"/>
            <a:ext cx="1000080" cy="1009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5" descr="T014510A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152280" y="2971800"/>
            <a:ext cx="1238400" cy="82872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6"/>
          <p:cNvSpPr/>
          <p:nvPr/>
        </p:nvSpPr>
        <p:spPr>
          <a:xfrm rot="16200000">
            <a:off x="-166680" y="1613160"/>
            <a:ext cx="170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ticip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1000"/>
                            </p:stCondLst>
                            <p:childTnLst>
                              <p:par>
                                <p:cTn id="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4000"/>
                            </p:stCondLst>
                            <p:childTnLst>
                              <p:par>
                                <p:cTn id="59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0"/>
                            </p:stCondLst>
                            <p:childTnLst>
                              <p:par>
                                <p:cTn id="6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6000"/>
                            </p:stCondLst>
                            <p:childTnLst>
                              <p:par>
                                <p:cTn id="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8000"/>
                            </p:stCondLst>
                            <p:childTnLst>
                              <p:par>
                                <p:cTn id="7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9000"/>
                            </p:stCondLst>
                            <p:childTnLst>
                              <p:par>
                                <p:cTn id="84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boratory Safety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ogn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ongoing or existing ope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st or identify potential haz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zardous mate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ypes of Hazardous Material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os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xid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x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ter Reac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/Combustibl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422440" y="2098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Picture 4" descr="109-0983_IMG"/>
          <p:cNvPicPr/>
          <p:nvPr/>
        </p:nvPicPr>
        <p:blipFill>
          <a:blip r:embed="rId1"/>
          <a:stretch/>
        </p:blipFill>
        <p:spPr>
          <a:xfrm>
            <a:off x="2057400" y="1752480"/>
            <a:ext cx="6442200" cy="483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5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ammable (OSHA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479600" y="1980720"/>
            <a:ext cx="7626240" cy="388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qu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shpoint below 20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 is combust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osive range greater than 1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l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 through friction, absorption of moisture, spontaneous chemical change, or readily burns at greater than 1/10 in. per se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/>
          <p:cNvSpPr/>
          <p:nvPr/>
        </p:nvSpPr>
        <p:spPr>
          <a:xfrm rot="16200000">
            <a:off x="-149040" y="2544120"/>
            <a:ext cx="16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Recog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20T16:02:02Z</dcterms:created>
  <dc:creator>State of Mn</dc:creator>
  <dc:description/>
  <dc:language>en-US</dc:language>
  <cp:lastModifiedBy>cabir soft</cp:lastModifiedBy>
  <dcterms:modified xsi:type="dcterms:W3CDTF">2011-02-16T06:37:01Z</dcterms:modified>
  <cp:revision>53</cp:revision>
  <dc:subject/>
  <dc:title>Title of slide show</dc:title>
</cp:coreProperties>
</file>