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3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9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E79B7-159E-49EF-A5BD-876109176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578C3-4812-4167-88D4-B79C04AE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F0C457-1409-4B97-A254-6206E6DEA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AC15B-2331-4CDA-9663-18A2B53F8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D72B6-E347-4B7D-AD81-4540D761A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43229F-DE2B-4A9D-A9AC-B385F7B2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8BC4B-30F0-4BCB-9EC2-164547696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9D062-575A-4B28-8FCA-957CD72B3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90403-591C-45CC-BE0C-6D5559EE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D0D5-FC25-4478-91F8-FB22E200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6D48-B4E5-4020-8A07-0585DA2B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A97E7-3AA6-4D87-83E2-F324D153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7CE9-29DB-46B9-9EFA-69498AA2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C5F0-FDEE-471B-BF4B-6DEF2E63E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2392-842F-4875-A911-5609853E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6517E-2073-4E39-8919-BA5DA36C4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6D52-7436-48DD-A74A-9F18CF8F2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9DA54-C4E7-45FD-AF3F-28BD21AF9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197A2-E476-4B66-88A8-791C04E30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0B191D-3D49-4CB1-B6A5-C110E276C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5FE69A-8E0C-4E34-BBCF-C8EE22E59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92B1A-24F5-4339-BCAE-2F1F9DC15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85822D-4BFE-4F0F-8D61-F503FD4E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5A7372-D704-496D-A0D5-C5DFEB7DD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3C1B-E2F5-4546-8920-E91E809311F6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cc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99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cc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 algn="r" rtl="1">
              <a:spcBef>
                <a:spcPts val="799"/>
              </a:spcBef>
              <a:buClr>
                <a:srgbClr val="cc66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 algn="r" rtl="1">
              <a:spcBef>
                <a:spcPts val="799"/>
              </a:spcBef>
              <a:buClr>
                <a:srgbClr val="cc33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04080" indent="-214560" algn="r" rtl="1">
              <a:spcBef>
                <a:spcPts val="799"/>
              </a:spcBef>
              <a:buClr>
                <a:srgbClr val="cc66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933920" indent="-214560" algn="r" rtl="1">
              <a:spcBef>
                <a:spcPts val="799"/>
              </a:spcBef>
              <a:buClr>
                <a:srgbClr val="cc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933920" indent="-214560" algn="r" rtl="1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13781-FFBE-419D-8B50-FB260EF73910}" type="slidenum">
              <a:rPr b="0" lang="ar-S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" name="Object 6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Left Brace 3"/>
          <p:cNvSpPr/>
          <p:nvPr/>
        </p:nvSpPr>
        <p:spPr>
          <a:xfrm>
            <a:off x="571680" y="1643040"/>
            <a:ext cx="571320" cy="242892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428920"/>
              <a:gd name="textAreaBottom" fmla="*/ 2414160 h 242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2"/>
                  <a:pt x="10800" y="424"/>
                </a:cubicBezTo>
                <a:lnTo>
                  <a:pt x="10800" y="10376"/>
                </a:lnTo>
                <a:cubicBezTo>
                  <a:pt x="10800" y="10588"/>
                  <a:pt x="5400" y="10800"/>
                  <a:pt x="0" y="10800"/>
                </a:cubicBezTo>
                <a:cubicBezTo>
                  <a:pt x="5400" y="10800"/>
                  <a:pt x="10800" y="11012"/>
                  <a:pt x="10800" y="11224"/>
                </a:cubicBezTo>
                <a:lnTo>
                  <a:pt x="10800" y="21176"/>
                </a:lnTo>
                <a:cubicBezTo>
                  <a:pt x="10800" y="2138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Box 4"/>
          <p:cNvSpPr/>
          <p:nvPr/>
        </p:nvSpPr>
        <p:spPr>
          <a:xfrm>
            <a:off x="1071720" y="1928880"/>
            <a:ext cx="307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lu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le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Box 3"/>
          <p:cNvSpPr/>
          <p:nvPr/>
        </p:nvSpPr>
        <p:spPr>
          <a:xfrm>
            <a:off x="357120" y="278604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minants Exposure Side 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eft Brace 4"/>
          <p:cNvSpPr/>
          <p:nvPr/>
        </p:nvSpPr>
        <p:spPr>
          <a:xfrm>
            <a:off x="4071960" y="857160"/>
            <a:ext cx="642960" cy="4286520"/>
          </a:xfrm>
          <a:custGeom>
            <a:avLst/>
            <a:gdLst>
              <a:gd name="textAreaLeft" fmla="*/ 410760 w 642960"/>
              <a:gd name="textAreaRight" fmla="*/ 642960 w 642960"/>
              <a:gd name="textAreaTop" fmla="*/ 16560 h 4286520"/>
              <a:gd name="textAreaBottom" fmla="*/ 4269960 h 428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5"/>
                  <a:pt x="10800" y="270"/>
                </a:cubicBezTo>
                <a:lnTo>
                  <a:pt x="10800" y="10530"/>
                </a:lnTo>
                <a:cubicBezTo>
                  <a:pt x="10800" y="10665"/>
                  <a:pt x="5400" y="10800"/>
                  <a:pt x="0" y="10800"/>
                </a:cubicBezTo>
                <a:cubicBezTo>
                  <a:pt x="5400" y="10800"/>
                  <a:pt x="10800" y="10935"/>
                  <a:pt x="10800" y="11070"/>
                </a:cubicBezTo>
                <a:lnTo>
                  <a:pt x="10800" y="21330"/>
                </a:lnTo>
                <a:cubicBezTo>
                  <a:pt x="10800" y="2146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Box 5"/>
          <p:cNvSpPr/>
          <p:nvPr/>
        </p:nvSpPr>
        <p:spPr>
          <a:xfrm>
            <a:off x="4643280" y="1285920"/>
            <a:ext cx="3786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Irr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ensitiz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Systemic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Target organs(CNS,P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espiratory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Reproductive eff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Carcino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TextBox 3"/>
          <p:cNvSpPr/>
          <p:nvPr/>
        </p:nvSpPr>
        <p:spPr>
          <a:xfrm>
            <a:off x="428760" y="1714680"/>
            <a:ext cx="36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s and Guid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eft Brace 4"/>
          <p:cNvSpPr/>
          <p:nvPr/>
        </p:nvSpPr>
        <p:spPr>
          <a:xfrm>
            <a:off x="3000240" y="571680"/>
            <a:ext cx="357480" cy="2643120"/>
          </a:xfrm>
          <a:custGeom>
            <a:avLst/>
            <a:gdLst>
              <a:gd name="textAreaLeft" fmla="*/ 228600 w 357480"/>
              <a:gd name="textAreaRight" fmla="*/ 357840 w 357480"/>
              <a:gd name="textAreaTop" fmla="*/ 9000 h 2643120"/>
              <a:gd name="textAreaBottom" fmla="*/ 263412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5"/>
          <p:cNvSpPr/>
          <p:nvPr/>
        </p:nvSpPr>
        <p:spPr>
          <a:xfrm>
            <a:off x="3286080" y="857160"/>
            <a:ext cx="4643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Chronic  exposures to the general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Acute exposures to the general commun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)Acute occupational expo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)Chronic occupational expo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6"/>
          <p:cNvSpPr/>
          <p:nvPr/>
        </p:nvSpPr>
        <p:spPr>
          <a:xfrm>
            <a:off x="2357280" y="4572000"/>
            <a:ext cx="335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ological  moni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پيرامون حوادث 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OSHA</a:t>
            </a: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بررسيهاي</a:t>
            </a:r>
            <a:r>
              <a:rPr b="0" lang="fa-IR" sz="4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-360" y="1988640"/>
            <a:ext cx="8218440" cy="108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24000"/>
          </a:bodyPr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تماس با مواد سمي در آزمايشگاه مي تواند نتايج خطرناكي حتي مرگ در بر داشته باشد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اين صدمات مي تواند در هر آزمايشگاهي كه با مواد سمي كار مي كننداتفاق افتد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-82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يشتر اين صدمات قابل پيشگيري است در صورتي كه افراد از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تجهيزات مناسب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تكنيك و روش مناسب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* دانش مناسب و كاف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CCUPATIONAL SAFETY AND HEALTH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MINISTRATIO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82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0" y="1700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14" descr="accident"/>
          <p:cNvPicPr/>
          <p:nvPr/>
        </p:nvPicPr>
        <p:blipFill>
          <a:blip r:embed="rId1"/>
          <a:stretch/>
        </p:blipFill>
        <p:spPr>
          <a:xfrm>
            <a:off x="5724360" y="4311720"/>
            <a:ext cx="3419640" cy="2546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000" spc="-1" strike="noStrike">
                <a:solidFill>
                  <a:srgbClr val="ff0000"/>
                </a:solidFill>
                <a:latin typeface="Arial"/>
              </a:rPr>
              <a:t>آزمايشگاه استاندارد </a:t>
            </a: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OSHA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95280" y="1484280"/>
            <a:ext cx="82915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بايد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 </a:t>
            </a: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آلايندههاي موجود در محل كار پرسنل زير ح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ea typeface="Zar"/>
              </a:rPr>
              <a:t> مجاز باشد            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(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Zar"/>
              </a:rPr>
              <a:t>permissible exposure  li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دستورالعمل بهداشت كار با مواد شيميايي موجود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Arial"/>
                <a:cs typeface="Zar"/>
              </a:rPr>
              <a:t>فردي بعنوان مدير ايمني شيميايي معين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به پرسنل اطلاعات وآموزش لازم داده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تمام ظروف مواد شيميايي داراي برچسب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همه مواد شيميايي داراي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  <a:ea typeface="Zar"/>
              </a:rPr>
              <a:t>MSDS</a:t>
            </a:r>
            <a:r>
              <a:rPr b="1" lang="fa-IR" sz="2800" spc="-1" strike="noStrike">
                <a:solidFill>
                  <a:srgbClr val="000066"/>
                </a:solidFill>
                <a:latin typeface="Tahoma"/>
                <a:ea typeface="Zar"/>
              </a:rPr>
              <a:t>  باش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cs typeface="Zar"/>
              </a:rPr>
              <a:t>آزمايشات پزشكي و مشاوره پزشكي برا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 algn="r" rtl="1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a-IR" sz="2800" spc="-1" strike="noStrike">
                <a:solidFill>
                  <a:srgbClr val="000066"/>
                </a:solidFill>
                <a:latin typeface="Tahoma"/>
                <a:ea typeface="Zar"/>
              </a:rPr>
              <a:t>     پرسنل انجام شو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5" descr="s1"/>
          <p:cNvPicPr/>
          <p:nvPr/>
        </p:nvPicPr>
        <p:blipFill>
          <a:blip r:embed="rId1"/>
          <a:stretch/>
        </p:blipFill>
        <p:spPr>
          <a:xfrm>
            <a:off x="0" y="3213000"/>
            <a:ext cx="2425680" cy="32212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10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10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10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10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10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10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1000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" dur="1000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ff0000"/>
                </a:solidFill>
                <a:latin typeface="Arial"/>
              </a:rPr>
              <a:t>دستور العملهاي بهداشت مواد شيميايي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روش كار استاندارد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اندازه گيري كنترل تماس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تجهيزات حفاظتي وتهويه مناس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اطلاعات آموز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توجه به كار با مواد ويژه خطرنا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 مصوب كردن برنامه ريز ي براي موادشيميايي از قب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-آزمايشات پزشكي و مشاوره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 algn="r" rtl="1">
              <a:lnSpc>
                <a:spcPct val="90000"/>
              </a:lnSpc>
              <a:spcBef>
                <a:spcPts val="799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"/>
          <p:cNvPicPr/>
          <p:nvPr/>
        </p:nvPicPr>
        <p:blipFill>
          <a:blip r:embed="rId1"/>
          <a:stretch/>
        </p:blipFill>
        <p:spPr>
          <a:xfrm>
            <a:off x="826920" y="1844640"/>
            <a:ext cx="1835280" cy="2563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10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10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       </a:t>
            </a:r>
            <a:r>
              <a:rPr b="0" lang="fa-IR" sz="4400" spc="-1" strike="noStrike">
                <a:solidFill>
                  <a:srgbClr val="ff0000"/>
                </a:solidFill>
                <a:latin typeface="Arial"/>
              </a:rPr>
              <a:t>كليد كار ايمن</a:t>
            </a:r>
            <a:r>
              <a:rPr b="0" lang="fa-IR" sz="3200" spc="-1" strike="noStrike">
                <a:solidFill>
                  <a:srgbClr val="ff0000"/>
                </a:solidFill>
                <a:latin typeface="Arial"/>
              </a:rPr>
              <a:t> ..........</a:t>
            </a:r>
            <a:br>
              <a:rPr sz="3200"/>
            </a:br>
            <a:r>
              <a:rPr b="0" lang="fa-IR" sz="3200" spc="-1" strike="noStrike">
                <a:solidFill>
                  <a:srgbClr val="ff0000"/>
                </a:solidFill>
                <a:latin typeface="Arial"/>
              </a:rPr>
              <a:t>شناخت خطرا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طالعه دستورالعمل بهداشتي مواد شيمياي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بازنگري 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MSDS</a:t>
            </a: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واد شيميايي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fa-IR" sz="1800" spc="-1" strike="noStrike">
                <a:solidFill>
                  <a:srgbClr val="6666ff"/>
                </a:solidFill>
                <a:latin typeface="Arial"/>
              </a:rPr>
              <a:t>-خطرات بهداشتي وفيزيكي        - ارزيابي حفاظ تجهيزات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6666ff"/>
                </a:solidFill>
                <a:latin typeface="Arial"/>
              </a:rPr>
              <a:t>  - نشانه ها و علائم تماس          - روشهاي كمكهاي اضطراري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مطالعه همه برچسبه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آگاهي از پروتكل و روشهاي كار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800" spc="-1" strike="noStrike">
                <a:solidFill>
                  <a:srgbClr val="000066"/>
                </a:solidFill>
                <a:latin typeface="Arial"/>
              </a:rPr>
              <a:t>توجه به اثربرخي مواد شيميايي كه اثر سمي تاخيري روي بدن دارد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7" descr="t_safety_symbol_key"/>
          <p:cNvPicPr/>
          <p:nvPr/>
        </p:nvPicPr>
        <p:blipFill>
          <a:blip r:embed="rId1"/>
          <a:stretch/>
        </p:blipFill>
        <p:spPr>
          <a:xfrm>
            <a:off x="468360" y="2060640"/>
            <a:ext cx="2522520" cy="25225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تجهيزات حفاظت فردي 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PPE</a:t>
            </a:r>
            <a:r>
              <a:rPr b="0" lang="en-US" sz="4000" spc="-1" strike="noStrike">
                <a:solidFill>
                  <a:srgbClr val="000066"/>
                </a:solidFill>
                <a:latin typeface="Arial"/>
              </a:rPr>
              <a:t>)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بايدهمه لوازم حفاظت فردي بر اساس كد باشدودرمحيط كار استفاده شود.اين لوازم شامل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محافظ هاي چشم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كفش ايمن داراي روك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محافظ هاي تنفس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پيشبندهاي لاستيكي يا پلاستيكي براي مواد خورنده وبازي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دستكش باتوجه به نوع ماده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9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انبركها جهت عدم تماس با موا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6" descr="3232777618"/>
          <p:cNvPicPr/>
          <p:nvPr/>
        </p:nvPicPr>
        <p:blipFill>
          <a:blip r:embed="rId1"/>
          <a:stretch/>
        </p:blipFill>
        <p:spPr>
          <a:xfrm>
            <a:off x="755640" y="404640"/>
            <a:ext cx="1720800" cy="105588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7" descr="3M_6000_series_respirator"/>
          <p:cNvPicPr/>
          <p:nvPr/>
        </p:nvPicPr>
        <p:blipFill>
          <a:blip r:embed="rId2"/>
          <a:stretch/>
        </p:blipFill>
        <p:spPr>
          <a:xfrm>
            <a:off x="179280" y="4797360"/>
            <a:ext cx="3314880" cy="12096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northglovepg15-t297fl"/>
          <p:cNvPicPr/>
          <p:nvPr/>
        </p:nvPicPr>
        <p:blipFill>
          <a:blip r:embed="rId3"/>
          <a:stretch/>
        </p:blipFill>
        <p:spPr>
          <a:xfrm>
            <a:off x="4427640" y="5229360"/>
            <a:ext cx="2209680" cy="137160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12" descr=""/>
          <p:cNvPicPr/>
          <p:nvPr/>
        </p:nvPicPr>
        <p:blipFill>
          <a:blip r:embed="rId4"/>
          <a:stretch/>
        </p:blipFill>
        <p:spPr>
          <a:xfrm>
            <a:off x="0" y="2421000"/>
            <a:ext cx="2706840" cy="17571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4000" spc="-1" strike="noStrike">
                <a:solidFill>
                  <a:srgbClr val="000066"/>
                </a:solidFill>
                <a:latin typeface="Arial"/>
              </a:rPr>
              <a:t>هودهاي شيميايي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11280" y="234900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ود محفظه  بسته است كه فرد رااز در معرض بودن فيومهاي شيميايي ،گازها و آيروسلها در امان نگه مي دا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هودها معمولا هواي اتاق را به داخل كشيده واز طريق دودكش خارج مي نماي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بايدهودها هميشه درهنگام حضور روشن باشن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00"/>
                </a:solidFill>
                <a:latin typeface="Arial"/>
              </a:rPr>
              <a:t>صفحه جلو هود بايد در محل مشخص قرار گي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r" rtl="1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5" descr=""/>
          <p:cNvPicPr/>
          <p:nvPr/>
        </p:nvPicPr>
        <p:blipFill>
          <a:blip r:embed="rId1"/>
          <a:stretch/>
        </p:blipFill>
        <p:spPr>
          <a:xfrm>
            <a:off x="395280" y="3645000"/>
            <a:ext cx="3067200" cy="2457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5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برنامه بازرسي هودهاي شيميايي</a:t>
            </a:r>
            <a:r>
              <a:rPr b="0" lang="fa-IR" sz="36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800" spc="-1" strike="noStrike">
                <a:solidFill>
                  <a:srgbClr val="000066"/>
                </a:solidFill>
                <a:latin typeface="Arial"/>
              </a:rPr>
              <a:t>بازرسي ساليانه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تست از جهت مناسب بودن فلو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داشتن بر چسب كاربرد هود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200" spc="-1" strike="noStrike">
                <a:solidFill>
                  <a:srgbClr val="000066"/>
                </a:solidFill>
                <a:latin typeface="Arial"/>
              </a:rPr>
              <a:t>ايمني صفحه جلو هود از نظر محل قرار گرفتن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just" rtl="1">
              <a:lnSpc>
                <a:spcPct val="80000"/>
              </a:lnSpc>
              <a:spcBef>
                <a:spcPts val="550"/>
              </a:spcBef>
              <a:buClr>
                <a:srgbClr val="cc33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 algn="r" rtl="1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179280" y="2637000"/>
            <a:ext cx="5042160" cy="26193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0040" y="928800"/>
            <a:ext cx="5929200" cy="371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</a:t>
            </a: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1)Vapor pressu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por Dens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Chemical properti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3)Solubility</a:t>
            </a: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4)  Warnin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Left Brace 4"/>
          <p:cNvSpPr/>
          <p:nvPr/>
        </p:nvSpPr>
        <p:spPr>
          <a:xfrm>
            <a:off x="3071880" y="2000160"/>
            <a:ext cx="214200" cy="2643120"/>
          </a:xfrm>
          <a:custGeom>
            <a:avLst/>
            <a:gdLst>
              <a:gd name="textAreaLeft" fmla="*/ 136800 w 214200"/>
              <a:gd name="textAreaRight" fmla="*/ 214560 w 214200"/>
              <a:gd name="textAreaTop" fmla="*/ 5400 h 2643120"/>
              <a:gd name="textAreaBottom" fmla="*/ 263772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3"/>
                  <a:pt x="10800" y="146"/>
                </a:cubicBezTo>
                <a:lnTo>
                  <a:pt x="10800" y="10654"/>
                </a:lnTo>
                <a:cubicBezTo>
                  <a:pt x="10800" y="10727"/>
                  <a:pt x="5400" y="10800"/>
                  <a:pt x="0" y="10800"/>
                </a:cubicBezTo>
                <a:cubicBezTo>
                  <a:pt x="5400" y="10800"/>
                  <a:pt x="10800" y="10873"/>
                  <a:pt x="10800" y="10946"/>
                </a:cubicBezTo>
                <a:lnTo>
                  <a:pt x="10800" y="21454"/>
                </a:lnTo>
                <a:cubicBezTo>
                  <a:pt x="10800" y="2152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600" spc="-1" strike="noStrike">
                <a:solidFill>
                  <a:srgbClr val="ff0000"/>
                </a:solidFill>
                <a:latin typeface="Arial"/>
              </a:rPr>
              <a:t>نكات قابل توجه در هودهاي شيميايي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1988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 rtl="1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عوامل موثر بر توربولانت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- حركات سريع دست در داخل و خارج هو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انسداد مسير جريا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رفت و آمد و حركت افرا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just" rtl="1">
              <a:lnSpc>
                <a:spcPct val="80000"/>
              </a:lnSpc>
              <a:spcBef>
                <a:spcPts val="601"/>
              </a:spcBef>
              <a:buClr>
                <a:srgbClr val="cc33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سطح پنجره جلوي هو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2400" spc="-1" strike="noStrike">
                <a:solidFill>
                  <a:srgbClr val="000066"/>
                </a:solidFill>
                <a:latin typeface="Arial"/>
              </a:rPr>
              <a:t>  </a:t>
            </a: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- بهبود عملكرد به سطح پنجره هود بستگي دار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2400" spc="-1" strike="noStrike">
                <a:solidFill>
                  <a:srgbClr val="000066"/>
                </a:solidFill>
                <a:latin typeface="Arial"/>
              </a:rPr>
              <a:t>  - محل اين پنجره هميشه بايد مشخص باشد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 rtl="1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6" descr=""/>
          <p:cNvPicPr/>
          <p:nvPr/>
        </p:nvPicPr>
        <p:blipFill>
          <a:blip r:embed="rId1"/>
          <a:stretch/>
        </p:blipFill>
        <p:spPr>
          <a:xfrm>
            <a:off x="324000" y="1989000"/>
            <a:ext cx="2914560" cy="32734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5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1000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400" spc="-1" strike="noStrike">
                <a:solidFill>
                  <a:srgbClr val="ff0000"/>
                </a:solidFill>
                <a:latin typeface="Arial"/>
              </a:rPr>
              <a:t>برچسب ها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مستطيل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HMIS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 لوزي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NF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azardous Material Identification System</a:t>
            </a:r>
            <a:r>
              <a:rPr b="0" lang="fa-IR" sz="20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ational fire protection ag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6" descr=""/>
          <p:cNvPicPr/>
          <p:nvPr/>
        </p:nvPicPr>
        <p:blipFill>
          <a:blip r:embed="rId1"/>
          <a:stretch/>
        </p:blipFill>
        <p:spPr>
          <a:xfrm>
            <a:off x="250920" y="2852640"/>
            <a:ext cx="8540640" cy="364968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27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a-IR" sz="4400" spc="-1" strike="noStrike">
                <a:solidFill>
                  <a:srgbClr val="ff0000"/>
                </a:solidFill>
                <a:latin typeface="Arial"/>
              </a:rPr>
              <a:t>مثال برچسب ها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9640" y="14126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r" rtl="1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مستطيل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HMIS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i="1" lang="fa-IR" sz="3200" spc="-1" strike="noStrike">
                <a:solidFill>
                  <a:srgbClr val="000066"/>
                </a:solidFill>
                <a:latin typeface="Arial"/>
              </a:rPr>
              <a:t>* لوزي 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NFP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fa-I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Hazardous Material Identification System</a:t>
            </a:r>
            <a:r>
              <a:rPr b="0" lang="fa-IR" sz="2000" spc="-1" strike="noStrike">
                <a:solidFill>
                  <a:srgbClr val="000066"/>
                </a:solidFill>
                <a:latin typeface="Arial"/>
              </a:rPr>
              <a:t>                  </a:t>
            </a: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National fire protection agency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Rectangle 4"/>
          <p:cNvSpPr/>
          <p:nvPr/>
        </p:nvSpPr>
        <p:spPr>
          <a:xfrm>
            <a:off x="0" y="1484280"/>
            <a:ext cx="9144000" cy="14436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7" descr=""/>
          <p:cNvPicPr/>
          <p:nvPr/>
        </p:nvPicPr>
        <p:blipFill>
          <a:blip r:embed="rId1"/>
          <a:stretch/>
        </p:blipFill>
        <p:spPr>
          <a:xfrm>
            <a:off x="395280" y="1839960"/>
            <a:ext cx="8086680" cy="5018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3" descr="Water lilies.jpg"/>
          <p:cNvPicPr/>
          <p:nvPr/>
        </p:nvPicPr>
        <p:blipFill>
          <a:blip r:embed="rId1"/>
          <a:stretch/>
        </p:blipFill>
        <p:spPr>
          <a:xfrm>
            <a:off x="-285840" y="-15840"/>
            <a:ext cx="9501120" cy="6873840"/>
          </a:xfrm>
          <a:prstGeom prst="rect">
            <a:avLst/>
          </a:prstGeom>
          <a:ln w="0">
            <a:noFill/>
          </a:ln>
        </p:spPr>
      </p:pic>
      <p:sp>
        <p:nvSpPr>
          <p:cNvPr id="190" name="TextBox 4"/>
          <p:cNvSpPr/>
          <p:nvPr/>
        </p:nvSpPr>
        <p:spPr>
          <a:xfrm>
            <a:off x="285840" y="714240"/>
            <a:ext cx="857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000"/>
                </a:solidFill>
                <a:latin typeface="Arial"/>
              </a:rPr>
              <a:t>THANK   YOU  FOR  YOUR  PATIE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Left Brace 4"/>
          <p:cNvSpPr/>
          <p:nvPr/>
        </p:nvSpPr>
        <p:spPr>
          <a:xfrm>
            <a:off x="642960" y="1143000"/>
            <a:ext cx="571320" cy="278604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786040"/>
              <a:gd name="textAreaBottom" fmla="*/ 2771280 h 2786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5"/>
                  <a:pt x="10800" y="369"/>
                </a:cubicBezTo>
                <a:lnTo>
                  <a:pt x="10800" y="10431"/>
                </a:lnTo>
                <a:cubicBezTo>
                  <a:pt x="10800" y="10616"/>
                  <a:pt x="5400" y="10800"/>
                  <a:pt x="0" y="10800"/>
                </a:cubicBezTo>
                <a:cubicBezTo>
                  <a:pt x="5400" y="10800"/>
                  <a:pt x="10800" y="10985"/>
                  <a:pt x="10800" y="11169"/>
                </a:cubicBezTo>
                <a:lnTo>
                  <a:pt x="10800" y="21231"/>
                </a:lnTo>
                <a:cubicBezTo>
                  <a:pt x="10800" y="2141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000080" y="1571760"/>
            <a:ext cx="5072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-Volatile(&gt;1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-Semi volatile (10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1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- Non volatile(&lt;1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-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mH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28760" y="85680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Contaminants                 Vapor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Aeroso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Left Brace 3"/>
          <p:cNvSpPr/>
          <p:nvPr/>
        </p:nvSpPr>
        <p:spPr>
          <a:xfrm>
            <a:off x="2357280" y="1071720"/>
            <a:ext cx="500400" cy="3357360"/>
          </a:xfrm>
          <a:custGeom>
            <a:avLst/>
            <a:gdLst>
              <a:gd name="textAreaLeft" fmla="*/ 319680 w 500400"/>
              <a:gd name="textAreaRight" fmla="*/ 500760 w 500400"/>
              <a:gd name="textAreaTop" fmla="*/ 12960 h 3357360"/>
              <a:gd name="textAreaBottom" fmla="*/ 3344400 h 33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4"/>
                  <a:pt x="10800" y="268"/>
                </a:cubicBezTo>
                <a:lnTo>
                  <a:pt x="10800" y="10532"/>
                </a:lnTo>
                <a:cubicBezTo>
                  <a:pt x="10800" y="10666"/>
                  <a:pt x="5400" y="10800"/>
                  <a:pt x="0" y="10800"/>
                </a:cubicBezTo>
                <a:cubicBezTo>
                  <a:pt x="5400" y="10800"/>
                  <a:pt x="10800" y="10934"/>
                  <a:pt x="10800" y="11068"/>
                </a:cubicBezTo>
                <a:lnTo>
                  <a:pt x="10800" y="21332"/>
                </a:lnTo>
                <a:cubicBezTo>
                  <a:pt x="10800" y="2146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Left Brace 3"/>
          <p:cNvSpPr/>
          <p:nvPr/>
        </p:nvSpPr>
        <p:spPr>
          <a:xfrm>
            <a:off x="714240" y="928800"/>
            <a:ext cx="357480" cy="3357360"/>
          </a:xfrm>
          <a:custGeom>
            <a:avLst/>
            <a:gdLst>
              <a:gd name="textAreaLeft" fmla="*/ 228600 w 357480"/>
              <a:gd name="textAreaRight" fmla="*/ 357840 w 357480"/>
              <a:gd name="textAreaTop" fmla="*/ 9000 h 3357360"/>
              <a:gd name="textAreaBottom" fmla="*/ 3348360 h 335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6"/>
                  <a:pt x="10800" y="191"/>
                </a:cubicBezTo>
                <a:lnTo>
                  <a:pt x="10800" y="10609"/>
                </a:lnTo>
                <a:cubicBezTo>
                  <a:pt x="10800" y="10705"/>
                  <a:pt x="5400" y="10800"/>
                  <a:pt x="0" y="10800"/>
                </a:cubicBezTo>
                <a:cubicBezTo>
                  <a:pt x="5400" y="10800"/>
                  <a:pt x="10800" y="10896"/>
                  <a:pt x="10800" y="10991"/>
                </a:cubicBezTo>
                <a:lnTo>
                  <a:pt x="10800" y="21409"/>
                </a:lnTo>
                <a:cubicBezTo>
                  <a:pt x="10800" y="2150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4"/>
          <p:cNvSpPr/>
          <p:nvPr/>
        </p:nvSpPr>
        <p:spPr>
          <a:xfrm>
            <a:off x="1143000" y="1071720"/>
            <a:ext cx="30002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3300"/>
                </a:solidFill>
                <a:uFillTx/>
                <a:latin typeface="Arial"/>
                <a:hlinkClick r:id="rId1" action="ppaction://hlinksldjump"/>
              </a:rPr>
              <a:t>Du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Left Brace 3"/>
          <p:cNvSpPr/>
          <p:nvPr/>
        </p:nvSpPr>
        <p:spPr>
          <a:xfrm>
            <a:off x="1428840" y="2214720"/>
            <a:ext cx="357120" cy="2357280"/>
          </a:xfrm>
          <a:custGeom>
            <a:avLst/>
            <a:gdLst>
              <a:gd name="textAreaLeft" fmla="*/ 228240 w 357120"/>
              <a:gd name="textAreaRight" fmla="*/ 357480 w 357120"/>
              <a:gd name="textAreaTop" fmla="*/ 9000 h 2357280"/>
              <a:gd name="textAreaBottom" fmla="*/ 2348280 h 2357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37"/>
                  <a:pt x="10800" y="273"/>
                </a:cubicBezTo>
                <a:lnTo>
                  <a:pt x="10800" y="10527"/>
                </a:lnTo>
                <a:cubicBezTo>
                  <a:pt x="10800" y="10664"/>
                  <a:pt x="5400" y="10800"/>
                  <a:pt x="0" y="10800"/>
                </a:cubicBezTo>
                <a:cubicBezTo>
                  <a:pt x="5400" y="10800"/>
                  <a:pt x="10800" y="10937"/>
                  <a:pt x="10800" y="11073"/>
                </a:cubicBezTo>
                <a:lnTo>
                  <a:pt x="10800" y="21327"/>
                </a:lnTo>
                <a:cubicBezTo>
                  <a:pt x="10800" y="2146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5"/>
          <p:cNvSpPr/>
          <p:nvPr/>
        </p:nvSpPr>
        <p:spPr>
          <a:xfrm>
            <a:off x="1714680" y="2500200"/>
            <a:ext cx="357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Nonorgan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Organic(microbial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28760" y="571320"/>
            <a:ext cx="8229600" cy="58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mmable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physical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Explosive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Reactive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zardous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</a:t>
            </a: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2)Health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Left Brace 5"/>
          <p:cNvSpPr/>
          <p:nvPr/>
        </p:nvSpPr>
        <p:spPr>
          <a:xfrm>
            <a:off x="1643040" y="785880"/>
            <a:ext cx="500040" cy="407196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4071960"/>
              <a:gd name="textAreaBottom" fmla="*/ 4059000 h 407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1"/>
                  <a:pt x="10800" y="221"/>
                </a:cubicBezTo>
                <a:lnTo>
                  <a:pt x="10800" y="10579"/>
                </a:lnTo>
                <a:cubicBezTo>
                  <a:pt x="10800" y="10690"/>
                  <a:pt x="5400" y="10800"/>
                  <a:pt x="0" y="10800"/>
                </a:cubicBezTo>
                <a:cubicBezTo>
                  <a:pt x="5400" y="10800"/>
                  <a:pt x="10800" y="10911"/>
                  <a:pt x="10800" y="11021"/>
                </a:cubicBezTo>
                <a:lnTo>
                  <a:pt x="10800" y="21379"/>
                </a:lnTo>
                <a:cubicBezTo>
                  <a:pt x="10800" y="2149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eft Brace 6"/>
          <p:cNvSpPr/>
          <p:nvPr/>
        </p:nvSpPr>
        <p:spPr>
          <a:xfrm>
            <a:off x="3429000" y="785880"/>
            <a:ext cx="714240" cy="2000160"/>
          </a:xfrm>
          <a:custGeom>
            <a:avLst/>
            <a:gdLst>
              <a:gd name="textAreaLeft" fmla="*/ 456480 w 714240"/>
              <a:gd name="textAreaRight" fmla="*/ 714600 w 714240"/>
              <a:gd name="textAreaTop" fmla="*/ 18360 h 2000160"/>
              <a:gd name="textAreaBottom" fmla="*/ 1981800 h 2000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322"/>
                  <a:pt x="10800" y="643"/>
                </a:cubicBezTo>
                <a:lnTo>
                  <a:pt x="10800" y="10157"/>
                </a:lnTo>
                <a:cubicBezTo>
                  <a:pt x="10800" y="10479"/>
                  <a:pt x="5400" y="10800"/>
                  <a:pt x="0" y="10800"/>
                </a:cubicBezTo>
                <a:cubicBezTo>
                  <a:pt x="5400" y="10800"/>
                  <a:pt x="10800" y="11122"/>
                  <a:pt x="10800" y="11443"/>
                </a:cubicBezTo>
                <a:lnTo>
                  <a:pt x="10800" y="20957"/>
                </a:lnTo>
                <a:cubicBezTo>
                  <a:pt x="10800" y="2127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229600" cy="185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te</a:t>
            </a: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ure  </a:t>
            </a: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Chron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r>
              <a:rPr b="0" lang="fa-I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Left Brace 3"/>
          <p:cNvSpPr/>
          <p:nvPr/>
        </p:nvSpPr>
        <p:spPr>
          <a:xfrm>
            <a:off x="1714680" y="785880"/>
            <a:ext cx="500040" cy="214308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2143080"/>
              <a:gd name="textAreaBottom" fmla="*/ 2130120 h 214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0"/>
                  <a:pt x="10800" y="420"/>
                </a:cubicBezTo>
                <a:lnTo>
                  <a:pt x="10800" y="10380"/>
                </a:lnTo>
                <a:cubicBezTo>
                  <a:pt x="10800" y="10590"/>
                  <a:pt x="5400" y="10800"/>
                  <a:pt x="0" y="10800"/>
                </a:cubicBezTo>
                <a:cubicBezTo>
                  <a:pt x="5400" y="10800"/>
                  <a:pt x="10800" y="11010"/>
                  <a:pt x="10800" y="11220"/>
                </a:cubicBezTo>
                <a:lnTo>
                  <a:pt x="10800" y="21180"/>
                </a:lnTo>
                <a:cubicBezTo>
                  <a:pt x="10800" y="2139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5"/>
          <p:cNvSpPr/>
          <p:nvPr/>
        </p:nvSpPr>
        <p:spPr>
          <a:xfrm>
            <a:off x="785880" y="3786120"/>
            <a:ext cx="768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posure ver s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eft Brace 6"/>
          <p:cNvSpPr/>
          <p:nvPr/>
        </p:nvSpPr>
        <p:spPr>
          <a:xfrm>
            <a:off x="5643720" y="2928960"/>
            <a:ext cx="428400" cy="1986120"/>
          </a:xfrm>
          <a:custGeom>
            <a:avLst/>
            <a:gdLst>
              <a:gd name="textAreaLeft" fmla="*/ 273600 w 428400"/>
              <a:gd name="textAreaRight" fmla="*/ 428760 w 428400"/>
              <a:gd name="textAreaTop" fmla="*/ 11160 h 1986120"/>
              <a:gd name="textAreaBottom" fmla="*/ 1974960 h 1986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4"/>
                  <a:pt x="10800" y="388"/>
                </a:cubicBezTo>
                <a:lnTo>
                  <a:pt x="10800" y="10412"/>
                </a:lnTo>
                <a:cubicBezTo>
                  <a:pt x="10800" y="10606"/>
                  <a:pt x="5400" y="10800"/>
                  <a:pt x="0" y="10800"/>
                </a:cubicBezTo>
                <a:cubicBezTo>
                  <a:pt x="5400" y="10800"/>
                  <a:pt x="10800" y="10994"/>
                  <a:pt x="10800" y="11188"/>
                </a:cubicBezTo>
                <a:lnTo>
                  <a:pt x="10800" y="21212"/>
                </a:lnTo>
                <a:cubicBezTo>
                  <a:pt x="10800" y="21406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9"/>
          <p:cNvSpPr/>
          <p:nvPr/>
        </p:nvSpPr>
        <p:spPr>
          <a:xfrm>
            <a:off x="6000840" y="314316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sorbes 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10"/>
          <p:cNvSpPr/>
          <p:nvPr/>
        </p:nvSpPr>
        <p:spPr>
          <a:xfrm>
            <a:off x="6000840" y="4214880"/>
            <a:ext cx="20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posited D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5"/>
          <p:cNvSpPr/>
          <p:nvPr/>
        </p:nvSpPr>
        <p:spPr>
          <a:xfrm>
            <a:off x="500040" y="1701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utes of Ent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eft Brace 6"/>
          <p:cNvSpPr/>
          <p:nvPr/>
        </p:nvSpPr>
        <p:spPr>
          <a:xfrm>
            <a:off x="2214720" y="785880"/>
            <a:ext cx="571320" cy="2214360"/>
          </a:xfrm>
          <a:custGeom>
            <a:avLst/>
            <a:gdLst>
              <a:gd name="textAreaLeft" fmla="*/ 365040 w 571320"/>
              <a:gd name="textAreaRight" fmla="*/ 571680 w 571320"/>
              <a:gd name="textAreaTop" fmla="*/ 14760 h 2214360"/>
              <a:gd name="textAreaBottom" fmla="*/ 2199600 h 221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2"/>
                  <a:pt x="10800" y="464"/>
                </a:cubicBezTo>
                <a:lnTo>
                  <a:pt x="10800" y="10336"/>
                </a:lnTo>
                <a:cubicBezTo>
                  <a:pt x="10800" y="10568"/>
                  <a:pt x="5400" y="10800"/>
                  <a:pt x="0" y="10800"/>
                </a:cubicBezTo>
                <a:cubicBezTo>
                  <a:pt x="5400" y="10800"/>
                  <a:pt x="10800" y="11032"/>
                  <a:pt x="10800" y="11264"/>
                </a:cubicBezTo>
                <a:lnTo>
                  <a:pt x="10800" y="21136"/>
                </a:lnTo>
                <a:cubicBezTo>
                  <a:pt x="10800" y="2136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2928960" y="642960"/>
            <a:ext cx="25718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663300"/>
                </a:solidFill>
                <a:uFillTx/>
                <a:latin typeface="Times New Roman"/>
                <a:ea typeface="Times New Roman"/>
                <a:hlinkClick r:id="rId1" action="ppaction://hlinksldjump"/>
              </a:rPr>
              <a:t>Respiratory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je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eft Brace 8"/>
          <p:cNvSpPr/>
          <p:nvPr/>
        </p:nvSpPr>
        <p:spPr>
          <a:xfrm>
            <a:off x="3786120" y="1714680"/>
            <a:ext cx="214560" cy="785520"/>
          </a:xfrm>
          <a:custGeom>
            <a:avLst/>
            <a:gdLst>
              <a:gd name="textAreaLeft" fmla="*/ 137160 w 214560"/>
              <a:gd name="textAreaRight" fmla="*/ 214920 w 214560"/>
              <a:gd name="textAreaTop" fmla="*/ 5400 h 785520"/>
              <a:gd name="textAreaBottom" fmla="*/ 780120 h 785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46"/>
                  <a:pt x="10800" y="491"/>
                </a:cubicBezTo>
                <a:lnTo>
                  <a:pt x="10800" y="10309"/>
                </a:lnTo>
                <a:cubicBezTo>
                  <a:pt x="10800" y="10555"/>
                  <a:pt x="5400" y="10800"/>
                  <a:pt x="0" y="10800"/>
                </a:cubicBezTo>
                <a:cubicBezTo>
                  <a:pt x="5400" y="10800"/>
                  <a:pt x="10800" y="11046"/>
                  <a:pt x="10800" y="11291"/>
                </a:cubicBezTo>
                <a:lnTo>
                  <a:pt x="10800" y="21109"/>
                </a:lnTo>
                <a:cubicBezTo>
                  <a:pt x="10800" y="21355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4071960" y="1714680"/>
            <a:ext cx="321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ty Solubility concent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tion of Expos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Box 10"/>
          <p:cNvSpPr/>
          <p:nvPr/>
        </p:nvSpPr>
        <p:spPr>
          <a:xfrm>
            <a:off x="571680" y="4714920"/>
            <a:ext cx="29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minants Ele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eft Brace 11"/>
          <p:cNvSpPr/>
          <p:nvPr/>
        </p:nvSpPr>
        <p:spPr>
          <a:xfrm>
            <a:off x="3357720" y="3357720"/>
            <a:ext cx="500040" cy="3143160"/>
          </a:xfrm>
          <a:custGeom>
            <a:avLst/>
            <a:gdLst>
              <a:gd name="textAreaLeft" fmla="*/ 319680 w 500040"/>
              <a:gd name="textAreaRight" fmla="*/ 500400 w 500040"/>
              <a:gd name="textAreaTop" fmla="*/ 12960 h 3143160"/>
              <a:gd name="textAreaBottom" fmla="*/ 3130200 h 314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43"/>
                  <a:pt x="10800" y="286"/>
                </a:cubicBezTo>
                <a:lnTo>
                  <a:pt x="10800" y="10514"/>
                </a:lnTo>
                <a:cubicBezTo>
                  <a:pt x="10800" y="10657"/>
                  <a:pt x="5400" y="10800"/>
                  <a:pt x="0" y="10800"/>
                </a:cubicBezTo>
                <a:cubicBezTo>
                  <a:pt x="5400" y="10800"/>
                  <a:pt x="10800" y="10943"/>
                  <a:pt x="10800" y="11086"/>
                </a:cubicBezTo>
                <a:lnTo>
                  <a:pt x="10800" y="21314"/>
                </a:lnTo>
                <a:cubicBezTo>
                  <a:pt x="10800" y="21457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3929040" y="3143160"/>
            <a:ext cx="22860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r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w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ha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6" descr="a2"/>
          <p:cNvPicPr/>
          <p:nvPr/>
        </p:nvPicPr>
        <p:blipFill>
          <a:blip r:embed="rId2"/>
          <a:stretch/>
        </p:blipFill>
        <p:spPr>
          <a:xfrm>
            <a:off x="214200" y="2357280"/>
            <a:ext cx="2184480" cy="17463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a1"/>
          <p:cNvPicPr/>
          <p:nvPr/>
        </p:nvPicPr>
        <p:blipFill>
          <a:blip r:embed="rId3"/>
          <a:stretch/>
        </p:blipFill>
        <p:spPr>
          <a:xfrm>
            <a:off x="7143840" y="471600"/>
            <a:ext cx="1780920" cy="181440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9T22:07:53Z</dcterms:created>
  <dc:creator>MacDonald</dc:creator>
  <dc:description/>
  <dc:language>en-US</dc:language>
  <cp:lastModifiedBy>ALI</cp:lastModifiedBy>
  <dcterms:modified xsi:type="dcterms:W3CDTF">2010-10-09T10:56:41Z</dcterms:modified>
  <cp:revision>376</cp:revision>
  <dc:subject/>
  <dc:title>Slide 1</dc:title>
</cp:coreProperties>
</file>